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E506AF-20A3-47D2-89D4-F7C0E13D80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4EA653-030C-4F61-8ADD-5701AF5166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47E201-316F-4D53-9660-F70F00F5DA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517891-274B-4329-86EC-EA078CB5F4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2B898D-60E1-4057-890D-3823CC5838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5"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C1F7BC-1B74-465E-9470-16AE92AEB2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592631-6E3C-43DA-AA76-C719FBDB63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48C27E-38A1-4A21-9266-EE2C6B98FE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C302EB-5225-4E8C-B47D-F9A37913C0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74CBB6-5418-4834-9218-35B1EC904F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AA1613-E518-47A3-BA7C-AB48E4358A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BA649-5FAE-4FF7-A2EE-5A129C75D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8"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DB4DBA-2593-42D4-8896-908774F361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2"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328169-5B0E-4A41-9E73-8EBB138828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6"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A31CEB-60D9-4BA6-A6E2-357CF7BBAA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8514CA-F83E-4A87-9BE4-909E453400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4"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C3FBB0-D873-4E02-9E5D-B1E19102DE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8DBCE2-87AD-4781-A389-2EBA29686C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B1B26A-C5C6-48B3-B06A-700DB4209A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8B71B9-5BC6-4C67-81C6-3F5EEF86B2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D308E3-802B-4BD7-9B07-0536E25D3F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5D17E-2F45-421D-8395-B5B6AE05E0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C49D2-0D4F-4805-9CAA-A770C59B43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27618-C063-4915-830E-58DC9AC790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5BF17-3899-462B-8503-4B3BF4F8882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34613-A4D4-42B9-890B-3F6382F1F2C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sldNum" idx="3"/>
          </p:nvPr>
        </p:nvSpPr>
        <p:spPr/>
        <p:txBody>
          <a:bodyPr/>
          <a:p>
            <a:fld id="{1D3B4418-535B-448B-86EA-72330D524621}" type="slidenum">
              <a:t>1</a:t>
            </a:fld>
          </a:p>
        </p:txBody>
      </p:sp>
    </p:spTree>
  </p:cSld>
  <p:transition advTm="30000">
    <p:cover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4" name="" descr=""/>
          <p:cNvPicPr/>
          <p:nvPr/>
        </p:nvPicPr>
        <p:blipFill>
          <a:blip r:embed="rId1"/>
          <a:stretch/>
        </p:blipFill>
        <p:spPr>
          <a:xfrm>
            <a:off x="0" y="44280"/>
            <a:ext cx="9144000" cy="6840720"/>
          </a:xfrm>
          <a:prstGeom prst="rect">
            <a:avLst/>
          </a:prstGeom>
          <a:ln w="0">
            <a:noFill/>
          </a:ln>
        </p:spPr>
      </p:pic>
      <p:sp>
        <p:nvSpPr>
          <p:cNvPr id="4" name="PlaceHolder 3"/>
          <p:cNvSpPr>
            <a:spLocks noGrp="1"/>
          </p:cNvSpPr>
          <p:nvPr>
            <p:ph type="sldNum" idx="3"/>
          </p:nvPr>
        </p:nvSpPr>
        <p:spPr/>
        <p:txBody>
          <a:bodyPr/>
          <a:p>
            <a:fld id="{CFC83D42-8E70-4AA7-A722-08EDF0B093B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1483920"/>
            <a:ext cx="8229600" cy="4535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	</a:t>
            </a:r>
            <a:r>
              <a:rPr b="0" lang="tr-TR" sz="2400" spc="-1" strike="noStrike">
                <a:solidFill>
                  <a:srgbClr val="000000"/>
                </a:solidFill>
                <a:latin typeface="Arial"/>
              </a:rPr>
              <a:t>Kariyerinin dönüm noktası, psikodinamik öğretisinin cazibesine kapıldığı, dönemin aykırı ruhu Sigismund Freud (1856-1939) ile yollarının kesişmesidir. Sonradan kuram ve uygulamasını kısıtlayıcı ve indirgemeci bularak bu büyük ustayla ilişkisini koparmıştır. İki büyük zihnin buluşması da ayrılması da çok gürültülü, bir o kadar da verimli olmuştur. C. G. Jung, hep zannedildiği gibi, –bir modernite harikası olan– Freud'un öğrencisi olarak tanımlanamaz; Jung-oluşunu ona borçlu değildir; ancak onunla ilişkisinden çok şey öğrendiği de inkâr edilemez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47D75A7F-8AFF-4AC7-BF20-3146843E8E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6840" y="1844640"/>
            <a:ext cx="8002440" cy="38894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	</a:t>
            </a:r>
            <a:r>
              <a:rPr b="0" lang="tr-TR" sz="2000" spc="-1" strike="noStrike">
                <a:solidFill>
                  <a:srgbClr val="000000"/>
                </a:solidFill>
                <a:latin typeface="Arial"/>
              </a:rPr>
              <a:t>Her ne kadar birbirlerini tamamlıyor gözükseler de, Jung'un gnostik-idealistik yaşam felsefesi, –temelde–, ilerlemeci Freudien dünya görüşünün –-dolayısıyla da psikoterapötik çözüm kurgularının– antitezidir. İşte tam da bu nedenle, onu geçmek üzereyken, fersah fersah gerilere düşmüş, ve bu gerileme "Ruh"un tanımını, Freud'un öğretilerine sığmayacak kadar genişletmiştir. Jung Freud'dan "fazla"dır; deliliğin, bilinç tarafından delilik olarak tanımlanmasına izin verilemeyecek kadar asl'olduğunu söyleyen ve "zorlama" aklı-başındalığımıza şaşırmamızı sağlayan kişidir. O "Ruh"un gizemlerinin Pinel'idir.</a:t>
            </a:r>
            <a:br>
              <a:rPr sz="2000"/>
            </a:br>
            <a:br>
              <a:rPr sz="2000"/>
            </a:b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CE513417-2D30-4D7B-B3D5-97264DBFA57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9" name="" descr=""/>
          <p:cNvPicPr/>
          <p:nvPr/>
        </p:nvPicPr>
        <p:blipFill>
          <a:blip r:embed="rId1"/>
          <a:stretch/>
        </p:blipFill>
        <p:spPr>
          <a:xfrm>
            <a:off x="0" y="30240"/>
            <a:ext cx="9144000" cy="6797520"/>
          </a:xfrm>
          <a:prstGeom prst="rect">
            <a:avLst/>
          </a:prstGeom>
          <a:ln w="0">
            <a:noFill/>
          </a:ln>
        </p:spPr>
      </p:pic>
      <p:sp>
        <p:nvSpPr>
          <p:cNvPr id="4" name="PlaceHolder 3"/>
          <p:cNvSpPr>
            <a:spLocks noGrp="1"/>
          </p:cNvSpPr>
          <p:nvPr>
            <p:ph type="sldNum" idx="3"/>
          </p:nvPr>
        </p:nvSpPr>
        <p:spPr/>
        <p:txBody>
          <a:bodyPr/>
          <a:p>
            <a:fld id="{9F0EF3CC-6246-4223-8F2D-BB23B6B678C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1483920"/>
            <a:ext cx="8229600" cy="4535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	</a:t>
            </a:r>
            <a:r>
              <a:rPr b="0" lang="tr-TR" sz="2400" spc="-1" strike="noStrike">
                <a:solidFill>
                  <a:srgbClr val="000000"/>
                </a:solidFill>
                <a:latin typeface="Arial"/>
              </a:rPr>
              <a:t>Ancak, C. G. Jung akıl hastalarını zincirlerinden kurtaran Pinel kadar "aydınlanmacı" değildir; bir bilinç-lilik fanatiği hiç değildir. Karanlığa her zaman saygı duymuş; karanlıksız aydınlığın mümkün olamayacağını vurgulamıştır. Aydınlık ve karanlığın içiçeliğinin oluşturduğu alacakaranlık onda hiçbir zaman vasat bir grilik değildir: C. G. Jung'un alacakaranlığı, mutlak aydınlık ve mutlak karanlığın hızlı geçişlerinin oluşturduğu bir yanılsamadır. İşte bu geçişlerin, dolayısıyla da geçişmelerin şaşkınlığı ve belirlenemezliği/güvensizliği nedeniyledir ki, Jung'un, modernist "akılcı" zihne ters ve ürkütücü gelen bir yanı vardır. </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51D54374-593A-46B5-A720-296DBD3EA37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1483920"/>
            <a:ext cx="8229600" cy="4535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	</a:t>
            </a:r>
            <a:r>
              <a:rPr b="0" lang="tr-TR" sz="2800" spc="-1" strike="noStrike">
                <a:solidFill>
                  <a:srgbClr val="000000"/>
                </a:solidFill>
                <a:latin typeface="Arial"/>
              </a:rPr>
              <a:t>Jung'un yaşam çizgisini, çocukluğundan beri gücüne, zenginliğine, karmaşıklığına teslim olduğu öznel dünyasının tek(il)liğinde hissettiği yalnızlığı, yalıtılmışlığı, aynı zamanda da seçilmişliği, öngördüğü bir insan(lık) nesnelliğine bağlama arayışında betimleyebiliriz. Bu çaba tekil ve öznel Carl Gustav Jung'u, bir yandan canlı doğa üzerinden cansız varlıklara, diğer yandan Ruh'a ve Tanrı imgesine bağlar. Ara aşama her iki tarafa doğru da kültür ve ortak bilinçdışı, ara elemanlar ise –elinizdeki kitabın ana temasını oluşturan– arketiplerdir. </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E14BA853-FB70-4B91-986E-EE1DFDA345B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1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 descr=""/>
          <p:cNvPicPr/>
          <p:nvPr/>
        </p:nvPicPr>
        <p:blipFill>
          <a:blip r:embed="rId1"/>
          <a:stretch/>
        </p:blipFill>
        <p:spPr>
          <a:xfrm>
            <a:off x="0" y="11160"/>
            <a:ext cx="9144000" cy="6899400"/>
          </a:xfrm>
          <a:prstGeom prst="rect">
            <a:avLst/>
          </a:prstGeom>
          <a:ln w="0">
            <a:noFill/>
          </a:ln>
        </p:spPr>
      </p:pic>
      <p:sp>
        <p:nvSpPr>
          <p:cNvPr id="4" name="PlaceHolder 3"/>
          <p:cNvSpPr>
            <a:spLocks noGrp="1"/>
          </p:cNvSpPr>
          <p:nvPr>
            <p:ph type="sldNum" idx="3"/>
          </p:nvPr>
        </p:nvSpPr>
        <p:spPr/>
        <p:txBody>
          <a:bodyPr/>
          <a:p>
            <a:fld id="{78297F25-4ED2-4C80-91C7-2CCC904FCB9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1483920"/>
            <a:ext cx="8229600" cy="45356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	</a:t>
            </a:r>
            <a:r>
              <a:rPr b="0" lang="tr-TR" sz="2000" spc="-1" strike="noStrike">
                <a:solidFill>
                  <a:srgbClr val="000000"/>
                </a:solidFill>
                <a:latin typeface="Arial"/>
              </a:rPr>
              <a:t>Her dünya görüşü, ki bunun içine kozmolojik/kozmojenik sistematizasyonlar, felsefi kuramlar, her türlü bilimsel açılımın yanı sıra, psikolojik kuramlar ve uygulamalar da girer, "o dünyayı gören gözlerin görüşü"dür. Genel-geçerlilik iddiasıyla, sorun çözme yöntemlerini kuramlaştıran ve kurumlaştıran terapi okullarının çıkış noktası, her zaman öznel bir sıkıntı, tanı ve sağaltım ümidi/öngörüsü/çabasıdır.</a:t>
            </a:r>
            <a:br>
              <a:rPr sz="2000"/>
            </a:br>
            <a:r>
              <a:rPr b="0" lang="tr-TR" sz="2000" spc="-1" strike="noStrike">
                <a:solidFill>
                  <a:srgbClr val="000000"/>
                </a:solidFill>
                <a:latin typeface="Arial"/>
              </a:rPr>
              <a:t>       İnsan yaşamının esas gailesi, kendi tedavisidir, yani kendi eksikliklerini tamamlamak, çatışmalarını çözümlemek ve zedelenmişliklerinin ıstırabını azaltmaktır. Bunu başarmak, dünyayı, yeniden ve merkezinde kendisi olmak kaydıyle, yani, kendi dünyası olarak "tamam" etmektir: "Yaratıcılık" dediğimiz, hiç bitmeyecek, yani hiçbir zaman ufkuna ulaşamayacak eylem de budur: "Dünyayı-tamam-etme-eylemi"...</a:t>
            </a:r>
            <a:br>
              <a:rPr sz="2000"/>
            </a:br>
            <a:br>
              <a:rPr sz="2000"/>
            </a:b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A225DDAD-2D5A-4180-AE32-A17EE1FEF1B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1699920"/>
            <a:ext cx="8229600" cy="43196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	</a:t>
            </a:r>
            <a:r>
              <a:rPr b="0" lang="tr-TR" sz="2000" spc="-1" strike="noStrike">
                <a:solidFill>
                  <a:srgbClr val="000000"/>
                </a:solidFill>
                <a:latin typeface="Arial"/>
              </a:rPr>
              <a:t>"Bilincin kozmik anlamını o anda apaçık kavradım. 'Doğanın yarım bıraktığını sanat tamamlar' der simyacılar. Ben, yani bir insan, gizli bir yaratıcılıkla, dünyaya nesnel bir varoluş katarak, ona kusursuz damgasını vurmuştum. Böyle bir davranışı ancak Yaradan yapabilir denir... İnsan, yaradılışın tamamlanabilmesi için gerekli(dir), çünkü insanın kendisi ikinci bir yaratıcı(dır) ve dünyaya nesnel varlığını kazandıran o(dur)... Nesnel varoluşu ve anlamı yaratan insandı(r) ve insan varoluşun yüce sürecinde vazgeçilmez yerini almıştı(r)." (Jung 2001: 262-3). </a:t>
            </a:r>
            <a:br>
              <a:rPr sz="2000"/>
            </a:br>
            <a:r>
              <a:rPr b="0" lang="tr-TR" sz="2000" spc="-1" strike="noStrike">
                <a:solidFill>
                  <a:srgbClr val="000000"/>
                </a:solidFill>
                <a:latin typeface="Arial"/>
              </a:rPr>
              <a:t>       Jung, ikinci bir yaratıcı olarak kendini, yani insanı, anlamı yaratmaya memur ve sorumlu/zorunlu ilan ederken, insanın ve Tanrı'nın iç içe geçtiği, –elbette Hıristiyan mitolojisinden ve İsa-Mesih imgesinden beslenen– bir dünya görüşünün izlerini sezdirmektedir. </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1B318B5A-CABC-4D4C-8FF9-DA0CAD31542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1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9" name=""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sldNum" idx="3"/>
          </p:nvPr>
        </p:nvSpPr>
        <p:spPr/>
        <p:txBody>
          <a:bodyPr/>
          <a:p>
            <a:fld id="{1AFA05FC-743C-4C04-8D95-47A4B7FD45C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Dört Arketip</a:t>
            </a:r>
            <a:endParaRPr b="0" lang="en-US" sz="4200" spc="-1" strike="noStrike">
              <a:solidFill>
                <a:srgbClr val="ffffff"/>
              </a:solidFill>
              <a:latin typeface="Arial"/>
            </a:endParaRPr>
          </a:p>
        </p:txBody>
      </p:sp>
      <p:sp>
        <p:nvSpPr>
          <p:cNvPr id="9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Metis Yayınları'ndaki kitapları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Dört Arketip, 2003</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Çeviri: Zehra Aksu Yılmaze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Kapak İllüstrasyonu: Yetkin Başarı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Kapak Tasarımı: Semih Sökme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Kitabın Baskıları:</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İlk Basım: Mayıs 2003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3. Basım: Ekim 2009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Hazırlayan : Levent YAZIC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A1BFF14-EB76-48C6-BFA0-C2DFF033697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395280" y="1557360"/>
            <a:ext cx="8229600" cy="3959280"/>
          </a:xfrm>
          <a:prstGeom prst="rect">
            <a:avLst/>
          </a:prstGeom>
          <a:noFill/>
          <a:ln w="0">
            <a:noFill/>
          </a:ln>
        </p:spPr>
        <p:txBody>
          <a:bodyPr lIns="90000" rIns="90000" tIns="46800" bIns="4680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	</a:t>
            </a:r>
            <a:r>
              <a:rPr b="0" lang="tr-TR" sz="2400" spc="-1" strike="noStrike">
                <a:solidFill>
                  <a:srgbClr val="000000"/>
                </a:solidFill>
                <a:latin typeface="Arial"/>
              </a:rPr>
              <a:t>Varolan tüm dinler tarafından, hem modernitenin yüzeysellik ve akılcılık bağnazlığına karşı müttefik addedilen derinleşmelerde kılavuz, hem de "zındık" suçlamasıyla dışlanacak fikirlerin babası olarak C. G. Jung, bireysel kurtuluşun "dinsel" bir merkezde bütünleşmeyle mümkün olacağını vurgularken, bu merkezi, her insanın özgün –ama nesnel– kendiliğinde ("Selbst") bulabileceğini ve/veya gerçekleştirebileceğini söyler: </a:t>
            </a:r>
            <a:br>
              <a:rPr sz="2400"/>
            </a:br>
            <a:r>
              <a:rPr b="0" lang="tr-TR" sz="2400" spc="-1" strike="noStrike">
                <a:solidFill>
                  <a:srgbClr val="000000"/>
                </a:solidFill>
                <a:latin typeface="Arial"/>
              </a:rPr>
              <a:t>       "...(Ç)ünkü 'Tanrı' bir mit değil, insanın içindeki Tanrısallığın ortaya çıkmasıdır." (Jung 2001: 342) </a:t>
            </a:r>
            <a:br>
              <a:rPr sz="2400"/>
            </a:br>
            <a:br>
              <a:rPr sz="2400"/>
            </a:b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1D84A70D-1199-4D77-9B8B-A2E9B8B1A59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394920" y="1844280"/>
            <a:ext cx="8064360" cy="38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	</a:t>
            </a:r>
            <a:r>
              <a:rPr b="0" lang="tr-TR" sz="2000" spc="-1" strike="noStrike">
                <a:solidFill>
                  <a:srgbClr val="000000"/>
                </a:solidFill>
                <a:latin typeface="Arial"/>
              </a:rPr>
              <a:t>Ancak bu bireysel/öznel merkezler aslında tek bir ortak merkeze akmaktadır. Bu nedenle Jung'un en öznel yorumu, nihayetinde insanı anonim bir nesnelliğe götürür. Paradoksal bir manevrayla içiçedir Jung öğretisi: Kendi öznel mitini çığırırken insan, anonimiteden uzaklaşarak özgünleşirken, üzerine maddenin ve zamanın nesnel ağırlığının çöktüğünü farkeder. Merkezkaç güçler, merkezcil çekimin de kaynağıdır. Belki de C. G. Jung teleolojisinin gerçek anlamda bir modern-istik din gibi algılanmasına neden olan, bu ortak (ve tek) merkeze doğru büzüşme, yüzeysel katmanların içe doğru göçmesi, kabuğun bir çekirdekte –her şeyi yutan ve her şey olan o meşum kara delikte– toplanmasının mutlaklığıdır.</a:t>
            </a:r>
            <a:br>
              <a:rPr sz="2000"/>
            </a:br>
            <a:br>
              <a:rPr sz="2000"/>
            </a:b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FA47969A-5FA8-4358-AA40-F90CDD1A6A7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sldNum" idx="3"/>
          </p:nvPr>
        </p:nvSpPr>
        <p:spPr/>
        <p:txBody>
          <a:bodyPr/>
          <a:p>
            <a:fld id="{0D069DE5-5984-4AE2-90B0-CA89BDF77B1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395280" y="1628640"/>
            <a:ext cx="8229600" cy="43214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	</a:t>
            </a:r>
            <a:r>
              <a:rPr b="0" lang="tr-TR" sz="2800" spc="-1" strike="noStrike">
                <a:solidFill>
                  <a:srgbClr val="000000"/>
                </a:solidFill>
                <a:latin typeface="Arial"/>
              </a:rPr>
              <a:t>Kara delik metaforunun yüklendiği güç imgesi, antitezini, kendi gibi bir mutlaklık içeren, "her şeyi-kapsayan-genleşme"de, sonsuzlukta bulur. Mutlaklıkta buluşma, bir ve aynı olmaktan başka bir şey olamaz; zira mutlak tektir. Bir aykırı "Orta-Avrupa Hıristiyan mistiği" olarak Jung'un çekimini hissedeceği mutlak-merkez, insanın kendinde taşıdığı bir ve sonsuz olan Tanrı imgesidir: </a:t>
            </a:r>
            <a:br>
              <a:rPr sz="2800"/>
            </a:br>
            <a:r>
              <a:rPr b="0" lang="tr-TR"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	</a:t>
            </a:r>
            <a:r>
              <a:rPr b="0" lang="tr-TR" sz="2800" spc="-1" strike="noStrike">
                <a:solidFill>
                  <a:srgbClr val="000000"/>
                </a:solidFill>
                <a:latin typeface="Arial"/>
              </a:rPr>
              <a:t> </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BB6727E3-4FB9-4033-AC6D-E333195BE26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324000" y="1483920"/>
            <a:ext cx="8229600" cy="4753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	</a:t>
            </a:r>
            <a:r>
              <a:rPr b="0" lang="tr-TR" sz="2800" spc="-1" strike="noStrike">
                <a:solidFill>
                  <a:srgbClr val="000000"/>
                </a:solidFill>
                <a:latin typeface="Arial"/>
              </a:rPr>
              <a:t>"Tüm düşüncelerim, güneşin çevresinde dolaşan gezegenler gibi Tanrı'yı merkez alıyor. Bu çekim gücünü yadsırsam en büyük günahı işlemiş olurum." (Jung 2001: 13) Jung elbette ki bir bilimadamıdır da: Her türlü nesne ve eylemi bilincin hükümranlığında merkezîleştirmek çabası, modern zihnin bir kaygısını yansıtmaktadır. Bu saiki Jungien psikolojinin çıkış noktasında tesbit ederek kendisine bir modernite kahramanı ünvanını da yakıştırabiliriz:</a:t>
            </a:r>
            <a:br>
              <a:rPr sz="2800"/>
            </a:br>
            <a:br>
              <a:rPr sz="2800"/>
            </a:b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5B4499C3-AC24-45D2-8CAC-09B87F8DFF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9" name=""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sldNum" idx="3"/>
          </p:nvPr>
        </p:nvSpPr>
        <p:spPr/>
        <p:txBody>
          <a:bodyPr/>
          <a:p>
            <a:fld id="{1C44382D-0ED8-448B-A1BC-6DD20686DF7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1557360"/>
            <a:ext cx="8229600" cy="44625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Önemli olan, bilinçdışı malzemeye kişilikler yükleyerek kendini ondan ayırabilmek ve aynı zamanda, onların bilinçle bağlantı kurmalarını sağlamaktır. Güçlerini yok etmenin yöntemi budur. Bir oranda bağımsızlıkları ve kendilerine özgü kimlikleri olduğu için, onlara kimlik vermek çok zor değildir. Bağımsızlıklarını kabullenmek de başlı başına bir iştir ama bilinçdışının kendini böyle ortaya koyması, bizim, onu en iyi biçimde yönetebilmemizi de sağlar." (Jung 2001: 199)</a:t>
            </a:r>
            <a:br>
              <a:rPr sz="2800"/>
            </a:br>
            <a:br>
              <a:rPr sz="2800"/>
            </a:b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8072C660-9817-473B-982A-87B72DE6BED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7200" y="1483920"/>
            <a:ext cx="8229600" cy="4535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Bu açımlama, bilincin algılama alanını genişletmeye ve benliğin nesneler üzerindeki etkinliğini artırmaya yönelik modernist söylemin açımlamasıdır; ancak günümüzde artık postmodern olarak nitelendirebileceğimiz bir tarzda ruhsal içeriklere yaklaşır. Jung merkeze kendi bilincini (insan bilincini) yerleştirerek modern bir tutum sürdürmenin ötesine de geçmiştir. Ruhsal içerikleri –ki bunları dış gerçekliklerle ilişki içinde oluşmuş "numinos" tasarımlar niteliğiyle arketip olarak tanımlamıştır– ayrı, kendi başına varoluş birimleri, özerk güç ve çekim kaynakları olarak kurgulamıştır:</a:t>
            </a:r>
            <a:br>
              <a:rPr sz="2400"/>
            </a:br>
            <a:r>
              <a:rPr b="0" lang="tr-TR" sz="2400" spc="-1" strike="noStrike">
                <a:solidFill>
                  <a:srgbClr val="000000"/>
                </a:solidFill>
                <a:latin typeface="Arial"/>
              </a:rPr>
              <a:t>       </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A2A15148-12DE-4A66-ADE3-242E10D9DED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3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4" name="" descr=""/>
          <p:cNvPicPr/>
          <p:nvPr/>
        </p:nvPicPr>
        <p:blipFill>
          <a:blip r:embed="rId1"/>
          <a:stretch/>
        </p:blipFill>
        <p:spPr>
          <a:xfrm>
            <a:off x="0" y="11160"/>
            <a:ext cx="9144000" cy="6835680"/>
          </a:xfrm>
          <a:prstGeom prst="rect">
            <a:avLst/>
          </a:prstGeom>
          <a:ln w="0">
            <a:noFill/>
          </a:ln>
        </p:spPr>
      </p:pic>
      <p:sp>
        <p:nvSpPr>
          <p:cNvPr id="4" name="PlaceHolder 3"/>
          <p:cNvSpPr>
            <a:spLocks noGrp="1"/>
          </p:cNvSpPr>
          <p:nvPr>
            <p:ph type="sldNum" idx="3"/>
          </p:nvPr>
        </p:nvSpPr>
        <p:spPr/>
        <p:txBody>
          <a:bodyPr/>
          <a:p>
            <a:fld id="{26443EB3-1BC5-41EB-BB4C-4D68B953CCA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57200" y="1483920"/>
            <a:ext cx="8229600" cy="4535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	</a:t>
            </a:r>
            <a:r>
              <a:rPr b="0" lang="tr-TR" sz="2800" spc="-1" strike="noStrike">
                <a:solidFill>
                  <a:srgbClr val="000000"/>
                </a:solidFill>
                <a:latin typeface="Arial"/>
              </a:rPr>
              <a:t>"Ruhta, benim üretmediğim şeyler vardı. Kendilerini üretiyorlar ve yaşamlarını sürdürüyorlardı. Philemon, benim dışımda bir gücü simgeliyordu. Fantezilerimde onunla konuşurduk... Düşünceleri kendimin ürettiğini sandığımı, ama aslında düşüncelerin bir ormandaki hayvanlar, bir odadaki insanlar ya da havadaki kuşlar gibi olduklarını düşündüğünü söylerdi. 'Bir odadaki insanları gördüğünde, o insanları senin yarattığını ya da onlardan senin sorumlu olduğunu düşünmezsin, değil mi?' diye de eklerdi. Ruhsal nesnelliği ve ruh gerçeğini bana öğreten o olmuştur." (Jung 2001: 195)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09C64FD3-3400-4A41-92AA-7EADEA456E7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57200" y="1557360"/>
            <a:ext cx="8229600" cy="4680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	</a:t>
            </a:r>
            <a:r>
              <a:rPr b="0" lang="tr-TR" sz="2000" spc="-1" strike="noStrike">
                <a:solidFill>
                  <a:srgbClr val="000000"/>
                </a:solidFill>
                <a:latin typeface="Arial"/>
              </a:rPr>
              <a:t>Tıp ve psikiyatri kökenli bir ruh çözümlemecisi olan Carl Gustav Jung'un, psikolojik tiplemeler, kompleksler teorisi ve sözcük çağrışım testi gibi özgün bilimsel katkıları günümüz psikolojisi ve psikiyatrisi içinde hâlâ yerini korumaktadır. Bunun ötesinde, bugün Jung'u bir ekol olarak anmamızın nedeni, bütün insan bilimlerine yansıyan türev ve etkileriyle "simge" alanındaki çalışmaları, ve kişisel ya da kolektif bilinçdışının dinamiklerini ve görüngülerini irdeleyen yapıtlarıdır.  Jung düşüncesinin antropolojiden teoloji ve felsefeye, etnolojiden sosyolojiye çok geniş bir alanda kalıcı izleri vardı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	</a:t>
            </a:r>
            <a:r>
              <a:rPr b="0" lang="tr-TR" sz="2000" spc="-1" strike="noStrike">
                <a:solidFill>
                  <a:srgbClr val="000000"/>
                </a:solidFill>
                <a:latin typeface="Arial"/>
              </a:rPr>
              <a:t>Anne arketipi, yeniden doğuş, masallarda ruhun fenomenolojisi ve hilebaz figürünün psikolojisi üzerine kaleme aldığı bu dört makale, Jung’un simge alanındaki çalışmalarına ışık tutacak önemli bir toplam.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286FD81C-B15F-4024-8670-B1BEA7352D3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468360" y="1700280"/>
            <a:ext cx="7786800" cy="4392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       </a:t>
            </a:r>
            <a:r>
              <a:rPr b="0" lang="tr-TR" sz="2000" spc="-1" strike="noStrike">
                <a:solidFill>
                  <a:srgbClr val="000000"/>
                </a:solidFill>
                <a:latin typeface="Arial"/>
              </a:rPr>
              <a:t>Jung'un kuramsal temelini sunduğu, arketipoloji ve bilinçdışı dinamiklere yoğunlaşan "Analitik Psikoloji" okulu, arketiplerin doğası gereği, imgeler, resimlerle çalışır. İmgelerin çok-anlamlılık ve muğlaklıkları, çok daha belirli ve keskin bir ifadeyi taşıyan sözcüklerin apaçıklığından farklıdır.</a:t>
            </a:r>
            <a:br>
              <a:rPr sz="2000"/>
            </a:br>
            <a:r>
              <a:rPr b="0" lang="tr-TR" sz="2000" spc="-1" strike="noStrike">
                <a:solidFill>
                  <a:srgbClr val="000000"/>
                </a:solidFill>
                <a:latin typeface="Arial"/>
              </a:rPr>
              <a:t>       İmgeler çocukluğu ve çocuksuluğu çağrıştırır. İmgelerin gerçeklik çıpası, sözden çok daha derinlere, gerilere gider. Bu da zaten eşya ve durumlar üzerinde hâkimiyet amaçlı olan söz'ün, her şeyin söze dökülebileceği saplantı ve zorlantısından farklı bir kabul-edişi içerir. Denetim amaçlı söz-leştirici'nin korkusu, resmin çocuksuluk, ilkellik, muğlaklık, gelişmemişlik yaftalarıyla azımsanma ve küçümsenmesine yol açabilir.</a:t>
            </a:r>
            <a:br>
              <a:rPr sz="2000"/>
            </a:br>
            <a:br>
              <a:rPr sz="2000"/>
            </a:b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F5BC0D55-9BAC-4953-B95B-6CFA29B1E02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3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9" name=""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sldNum" idx="3"/>
          </p:nvPr>
        </p:nvSpPr>
        <p:spPr/>
        <p:txBody>
          <a:bodyPr/>
          <a:p>
            <a:fld id="{D1DF11F8-C3D8-4436-B9F0-3B1E0EE1DEE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95280" y="1530360"/>
            <a:ext cx="8229600" cy="4635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	</a:t>
            </a:r>
            <a:r>
              <a:rPr b="0" lang="tr-TR" sz="2000" spc="-1" strike="noStrike">
                <a:solidFill>
                  <a:srgbClr val="000000"/>
                </a:solidFill>
                <a:latin typeface="Arial"/>
              </a:rPr>
              <a:t>Oysa arketiplerin işlevi, kristalizasyon odakları gibi "mevcut" türe-özgü biyolojik-evrimsel algılama-duyumsama-yorumlama-tepkile(ş)me şemalarını oluşturmak değildir. Arketipler, o şemaların mihenk noktalarında beliren, kendini gösteren ve kendini zor-layan görüngülerdir. Arketiplerin gücü kendilerinden menkul değildir; bir yer ve durumun imgesidirler ve o yer ve durumun kendisinden kaynaklanan bir zorlayıcılıkları vardır. Bu olgu onları –paradoksal gözükse de–, daha bir vazgeçilmez kılar. Zira güçleri kendilerinden menkul değildir. Varoluş açılımı bütünlüğünün zorunlu görüngüleridir. Ana eylem şemaları ve duruşların somutlaşmalarıdır. </a:t>
            </a:r>
            <a:br>
              <a:rPr sz="2000"/>
            </a:br>
            <a:r>
              <a:rPr b="0" lang="tr-TR" sz="2000" spc="-1" strike="noStrike">
                <a:solidFill>
                  <a:srgbClr val="000000"/>
                </a:solidFill>
                <a:latin typeface="Arial"/>
              </a:rPr>
              <a:t>       "Zihnimizin biçimlenmesine yardım etmiş ve ana ruhsal koşullarımızı saptamış belirli bir dünyada yaşadığımız için, ... (d)oğuştan getirdiğimiz yapımızın sınırları içinde kalmak zorundayız. Bu nedenle, tüm benliğimiz ve düşüncelerimizle bu dünyaya bağlıyız." (Jung 2001: 304) </a:t>
            </a:r>
            <a:br>
              <a:rPr sz="2000"/>
            </a:br>
            <a:br>
              <a:rPr sz="2000"/>
            </a:b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A2716521-C4B0-43DA-9243-4B0E9B0B5FD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24000" y="1459080"/>
            <a:ext cx="8229600" cy="47066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	</a:t>
            </a:r>
            <a:r>
              <a:rPr b="0" lang="tr-TR" sz="2000" spc="-1" strike="noStrike">
                <a:solidFill>
                  <a:srgbClr val="000000"/>
                </a:solidFill>
                <a:latin typeface="Arial"/>
              </a:rPr>
              <a:t>Jung'un pagan kaynaklı girdilere de açık psikososyal gelişim ortamı, herhalde "arketip" fikrinin oluşum ve gelişimine katkıda bulunmuştur. Şekilleştirilen ve "numinosum" ile, yani kavranılamayan gizemli bir güç ile doldurulan ruhsal içeriklerin (arketiplerin), şamanın, insan ve doğayla ilgili her türlü soru(n)da başvurduğu, yardımlaştığı ya da çatıştığı "dış(-laştırılmış)" gizemli güçlerle benzerliği açıktır. Jung, kendini-insanı-insanlığı sağaltım için öngördüğü ve önerdiği her yöntemi, bir şamanın esrikliğinde yaşadıklarına benzer tarzda, arketipsel güçlerle kurduğu ilişki içinde deneyimlemiş, ortak bilinç boyutuna geri döndüğünde yaşadıklarını bilimsel kurgu içinde paylaşıma açmıştır. Jung'un psikoterapistin işlevini açımlarken kullandığı "yaralı sağaltıcı" tanımlaması, şamanın sağaltıcı/düzenleyici işlevinin daha yüksek ve bütünleşmiş bir bilinçlilik düzeyindeki tekrarıdır. Modern zamanların "had-bilmez" "bilinç"-liliğinden farklı olarak, ben-liğin zaaf ve sınırlılığının, Ruh'un görkem ve çokluğunun ayırdında, "Nesnel Ruh'un Şamanı" olarak, Jung'un uçları kavuşturan duruşu, postmodern zamanlarda daha da modern gözükmektedir. </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C90D9382-2393-45C2-AE32-B5DFC88341A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4" name=""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sldNum" idx="3"/>
          </p:nvPr>
        </p:nvSpPr>
        <p:spPr/>
        <p:txBody>
          <a:bodyPr/>
          <a:p>
            <a:fld id="{811DE39F-3B67-4BA4-9AE1-39BC175FD3C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395280" y="1458720"/>
            <a:ext cx="8229600" cy="47782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C. G. Jung'un kuramsal kurgusunun çekirdeği, tekil bir insan-lık önerisi olan "bir(eysel)-leşme (individuasyon) süreci", bir bütünleşme sürecidir. Bir-leşme süreci, –çoğunlukla bilincinde olmasa da– her insanda bir te(le)olojik olasılık olarak mevcut bulunan, ruhun, Ruh'a doğru gelişme-büyüme-açılma serüvenidir. Jung'un va'zettiği anlamıyla psikoanaliz ve psikoterapi, bu olasılığın uyarılması, tıkanıklıkların açılması, akışın kolaylaştırılmasıdır. Bir-leşme sürecinin hem amacı, hem kazanımı olan bireysel bilinçlenme, nihayetinde, tüm insanlığın ortak bilincine bir sunu ve katkıdır. Bu işleviyle bir-leşme sürecine Jungien etiğin mihenk taşı pâyesini yakıştırabiliriz. </a:t>
            </a:r>
            <a:br>
              <a:rPr sz="1800"/>
            </a:br>
            <a:r>
              <a:rPr b="0" lang="tr-TR" sz="1800" spc="-1" strike="noStrike">
                <a:solidFill>
                  <a:srgbClr val="000000"/>
                </a:solidFill>
                <a:latin typeface="Arial"/>
              </a:rPr>
              <a:t>       Bir-leşme sürecinin temel düzeneği bilinç ve bilinçdışının karşılıklı eyleşimidir. Kişinin kendi merkezine doğru büyük yolculuğunu tarif ederken Jung'un başvurduğu referanslar arketipsel sembollerdir. Uzun ve zorlu, bezemelerinde zengin alternatifli, ancak aşamalarında zorunlu geçiş ve dönüşümleri telkin eden bir-leşme süreci kapsamında, bireyin öncelikle tanışması ve entegre etmesi gereken arketipsel öge, "gölge"sidir: </a:t>
            </a:r>
            <a:br>
              <a:rPr sz="1800"/>
            </a:br>
            <a:br>
              <a:rPr sz="1800"/>
            </a:b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058405D-4516-428E-828F-44386100E8B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324000" y="1628640"/>
            <a:ext cx="8229600" cy="4608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Kişiliğin daha düşük düzeydeki parçası. Seçilmiş bilinçlilikle başa çıkamadıkları için yaşam sürecinde kendilerini ifade etmelerine izin verilmeyen ve bu nedenle, bilinçdışında karşıtlık yaratmaya çalışan ve oldukça bağımsız bir 'hizip' oluşturan tüm bireysel ve ortak ruhsal öğeler. Düşlerde, gölge figürü her zaman düşü görenle aynı cinsiyetten olur." (Jung 2001: 19)</a:t>
            </a:r>
            <a:br>
              <a:rPr sz="1800"/>
            </a:br>
            <a:r>
              <a:rPr b="0" lang="tr-TR" sz="1800" spc="-1" strike="noStrike">
                <a:solidFill>
                  <a:srgbClr val="000000"/>
                </a:solidFill>
                <a:latin typeface="Arial"/>
              </a:rPr>
              <a:t>       Gölgeye bilincin yansımasıyla, karanlıkta kalan aydınlığa alınır. Daha ileri aşamada cinsiyetlerarası ötekiliğin de çözümleneceği ve aşılacağı bir karşılaşma belirleyicidir: Erkek, bilinçdışında bütünleyici öge olarak yer alan dişi imgesi ("anima") ile tanışır:</a:t>
            </a:r>
            <a:br>
              <a:rPr sz="1800"/>
            </a:br>
            <a:r>
              <a:rPr b="0" lang="tr-TR" sz="1800" spc="-1" strike="noStrike">
                <a:solidFill>
                  <a:srgbClr val="000000"/>
                </a:solidFill>
                <a:latin typeface="Arial"/>
              </a:rPr>
              <a:t>       Bu çift cinsellik biyolojik bir gerçektir... Her erkek, içinde, o ya da bu kadına ait olmayan sonsuz bir kadın imgesi taşır. Bu imge özünde bilinçdışıdır ve erkeğin organik sistemindeki asıl kadın biçiminin, yani bir arketipin, kalıtımsal bir öğesidir. Bu asıl resim, kadınlığın tüm atasal deneyimlerinin ve o güne dek kadınlığın bıraktığı izlerin bir birikiminden oluşur. İmge bilinçdışı olduğu için sevilene bilinçsizce yansıtılır. Tutkuya ya da nefrete neden olan budur. (Jung 2001: 16) </a:t>
            </a:r>
            <a:br>
              <a:rPr sz="1800"/>
            </a:br>
            <a:br>
              <a:rPr sz="1800"/>
            </a:b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ADF54BA-B31F-4B90-92E7-7DE36743B1D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9" name="" descr=""/>
          <p:cNvPicPr/>
          <p:nvPr/>
        </p:nvPicPr>
        <p:blipFill>
          <a:blip r:embed="rId1"/>
          <a:stretch/>
        </p:blipFill>
        <p:spPr>
          <a:xfrm>
            <a:off x="0" y="-55440"/>
            <a:ext cx="9144000" cy="6968880"/>
          </a:xfrm>
          <a:prstGeom prst="rect">
            <a:avLst/>
          </a:prstGeom>
          <a:ln w="0">
            <a:noFill/>
          </a:ln>
        </p:spPr>
      </p:pic>
      <p:sp>
        <p:nvSpPr>
          <p:cNvPr id="4" name="PlaceHolder 3"/>
          <p:cNvSpPr>
            <a:spLocks noGrp="1"/>
          </p:cNvSpPr>
          <p:nvPr>
            <p:ph type="sldNum" idx="3"/>
          </p:nvPr>
        </p:nvSpPr>
        <p:spPr/>
        <p:txBody>
          <a:bodyPr/>
          <a:p>
            <a:fld id="{F1D85F75-BA9F-4011-A99F-84E70973545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95280" y="1484280"/>
            <a:ext cx="8229600" cy="439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Kadının entegre edeceği ruh-imgesi ("animus") ise erildir; Jung' un erkek için söyledikleri, mutatis mutandis kadın için de geçerlidir.</a:t>
            </a:r>
            <a:br>
              <a:rPr sz="1800"/>
            </a:br>
            <a:r>
              <a:rPr b="0" lang="tr-TR" sz="1800" spc="-1" strike="noStrike">
                <a:solidFill>
                  <a:srgbClr val="000000"/>
                </a:solidFill>
                <a:latin typeface="Arial"/>
              </a:rPr>
              <a:t>       Cinsiyetin ayırdığını/ayrıştırdığını ve karşı cinse yansıttığını, bir-leşme/bütün-leşme süreci birleştirir, bütünleştirir.</a:t>
            </a:r>
            <a:br>
              <a:rPr sz="1800"/>
            </a:br>
            <a:r>
              <a:rPr b="0" lang="tr-TR" sz="1800" spc="-1" strike="noStrike">
                <a:solidFill>
                  <a:srgbClr val="000000"/>
                </a:solidFill>
                <a:latin typeface="Arial"/>
              </a:rPr>
              <a:t>       Yaşam yolcusu, kendisini tanıma (bilinçlenme) serüveninde –optimal koşullarda– pek çok arketipsel karşılaşmayla artar, zenginleşir. Ancak birleşme/bütünleşme sürecinin nihai hedefi ruhun merkezi olan "Ruh"tur; içkin ve aşkın olan kendilik'tir ("Selbst"). Bütünleşme, her zaman dönüşüm ile birliktedir. Kendindeki öteki'ni özümsemiş olan insan aynı kalamaz; dünya görüşü ve modelinde, dolayısıyla da yaşamında sarsıcı bir değişim kaçınılmazdır.</a:t>
            </a:r>
            <a:br>
              <a:rPr sz="1800"/>
            </a:br>
            <a:r>
              <a:rPr b="0" lang="tr-TR" sz="1800" spc="-1" strike="noStrike">
                <a:solidFill>
                  <a:srgbClr val="000000"/>
                </a:solidFill>
                <a:latin typeface="Arial"/>
              </a:rPr>
              <a:t>       Jung, kuramlarını yaşamsal deneyimlerle bire bir koşutlayabileceğiniz, ve bunu kendi ifadeleriyle doğrulayabileceğiniz az sayıdaki "açık" auteur'lerdendir. Bu yazıda sadece, –doğrudan– kendisi hakkında söylediklerinden oluşan anı-eserinden alıntıları kullanıyor olmamın nedeni, onun bu hasletini vurgulamak istememdir: </a:t>
            </a:r>
            <a:br>
              <a:rPr sz="1800"/>
            </a:br>
            <a:br>
              <a:rPr sz="1800"/>
            </a:b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D4B1F49-0AC0-4C6A-907F-D35BCD77B79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395280" y="1557360"/>
            <a:ext cx="8229600" cy="4392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Geçmişe bakıp fantezilerle uğraştığım dönemde başımdan geçenleri gözden geçirdiğimde, bana o zamanlar çok güçlü bir mesaj gelmiş gibi geliyor. İmgelerde benimle birlikte başkalarını da ilgilendiren şeyler vardı. Bu nedenle yalnızca kendime ait olmaktan vazgeçtim. Buna hakkım olmadığına karar vermiştim ve o andan başlayarak yaşamım herkese ait olmaya başladı. İlgilendiğim ve aradığım bilgiler o dönemin biliminde yer almıyordu. İlk deneyimlerden ben geçmek zorunda kaldım, üstelik deneyimlerimin sonuçlarının gerçeklik toprağına iyice kök salması gerekiyordu. Bu olmasa, çabam yaşama geçirilemeyen öznel bir varsayım olarak kalırdı. Bunun sonucunda, kendimi ruhun hizmetine adadım... O karmaşadan beni çıkartabilecek tek yol bilimimdi. O olmasaydı, edindiğim malzeme beni bataklık çiçekleri gibi hapseder ve o dev sarmaşıklar beni boğardı. Her bir imgeyi ve ruhsal dağarcığımda olan her şeyi tek tek anlamaya ve onları olabildiğince bilimsel sınıflara ayırmaya özen gösterdim." (Jung 2001: 204) </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CEC454C1-8845-4E0B-8C76-2830FB8CB11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611280" y="1700280"/>
            <a:ext cx="7632720" cy="4124160"/>
          </a:xfrm>
          <a:prstGeom prst="rect">
            <a:avLst/>
          </a:prstGeom>
          <a:ln w="0">
            <a:noFill/>
          </a:ln>
        </p:spPr>
      </p:pic>
      <p:sp>
        <p:nvSpPr>
          <p:cNvPr id="2" name="PlaceHolder 1"/>
          <p:cNvSpPr>
            <a:spLocks noGrp="1"/>
          </p:cNvSpPr>
          <p:nvPr>
            <p:ph type="sldNum" idx="3"/>
          </p:nvPr>
        </p:nvSpPr>
        <p:spPr/>
        <p:txBody>
          <a:bodyPr/>
          <a:p>
            <a:fld id="{E70BEA7D-A2DE-4BCE-B2D5-FDA7D73D990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5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4" name="" descr=""/>
          <p:cNvPicPr/>
          <p:nvPr/>
        </p:nvPicPr>
        <p:blipFill>
          <a:blip r:embed="rId1"/>
          <a:stretch/>
        </p:blipFill>
        <p:spPr>
          <a:xfrm>
            <a:off x="0" y="-63360"/>
            <a:ext cx="9144000" cy="6984720"/>
          </a:xfrm>
          <a:prstGeom prst="rect">
            <a:avLst/>
          </a:prstGeom>
          <a:ln w="0">
            <a:noFill/>
          </a:ln>
        </p:spPr>
      </p:pic>
      <p:sp>
        <p:nvSpPr>
          <p:cNvPr id="4" name="PlaceHolder 3"/>
          <p:cNvSpPr>
            <a:spLocks noGrp="1"/>
          </p:cNvSpPr>
          <p:nvPr>
            <p:ph type="sldNum" idx="3"/>
          </p:nvPr>
        </p:nvSpPr>
        <p:spPr/>
        <p:txBody>
          <a:bodyPr/>
          <a:p>
            <a:fld id="{9D832027-298E-49C4-B7DA-7040812E6FE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95280" y="1458720"/>
            <a:ext cx="8229600" cy="4778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	</a:t>
            </a:r>
            <a:r>
              <a:rPr b="0" lang="tr-TR" sz="2000" spc="-1" strike="noStrike">
                <a:solidFill>
                  <a:srgbClr val="000000"/>
                </a:solidFill>
                <a:latin typeface="Arial"/>
              </a:rPr>
              <a:t> </a:t>
            </a:r>
            <a:r>
              <a:rPr b="0" lang="tr-TR" sz="2000" spc="-1" strike="noStrike">
                <a:solidFill>
                  <a:srgbClr val="000000"/>
                </a:solidFill>
                <a:latin typeface="Arial"/>
              </a:rPr>
              <a:t>Metis'in seçkisi "Dört Arketip", orijinal bir kitabın çevirisi değildir. İngilizce bir seçkiye koşutluk içinde alt başlıkları oluşturan yazılar Almanca orijinalinden Türkçeye kazandırılmıştır. İngilizcesinde olduğu gibi Türkçe Metis baskısında da seçki ihtiyari bir toplamadır; söz konusu dört arketipin, özellikle biraradalığı, ya da önceliği söz konusu değildir. Ancak bu kitabın bir özelliği kültürümüz için önemlidir: C. G. Jung, İslâm ile pek ilgilenmemiştir denebilir; birkaç dolaylı değinme dışında tek kapsamlı yorumu, "Yeniden Doğuş" ile bağlantılı olarak Kur'an'ın 18. Sûresi'nin ("Kehf Sûresi") psiko-mitolojik gözden geçirilmesidir (s. 66-9). </a:t>
            </a:r>
            <a:br>
              <a:rPr sz="2000"/>
            </a:br>
            <a:r>
              <a:rPr b="0" lang="tr-TR" sz="2000" spc="-1" strike="noStrike">
                <a:solidFill>
                  <a:srgbClr val="000000"/>
                </a:solidFill>
                <a:latin typeface="Arial"/>
              </a:rPr>
              <a:t>       Nesnel Ruh'u ararken, ara bağlantı olarak kullandığı kültürel ve dinsel öğelerin yorumu, elbette ki Jung'un ruhsal öznelinin doğrudan etkisi altındadır. Ancak ne kadar yanlı, eksik ve hatta önyargılı olursa olsun, Jung'un savlarını sorgulamak, yorumlarına tavır almanın dahi, getirdiği artılar olacak, kültürel yansılamalar zenginleşecektir. Bu da nihayetinde o kültürün taşıdığı ortak bilincin kazanımı olacaktır. C. G. Jung uyarıcı ve dönüştürücüdür: Binlerce sayfalık </a:t>
            </a:r>
            <a:r>
              <a:rPr b="0" i="1" lang="tr-TR" sz="2000" spc="-1" strike="noStrike">
                <a:solidFill>
                  <a:srgbClr val="000000"/>
                </a:solidFill>
                <a:latin typeface="Arial"/>
              </a:rPr>
              <a:t>Toplu Eserleri</a:t>
            </a:r>
            <a:r>
              <a:rPr b="0" lang="tr-TR" sz="2000" spc="-1" strike="noStrike">
                <a:solidFill>
                  <a:srgbClr val="000000"/>
                </a:solidFill>
                <a:latin typeface="Arial"/>
              </a:rPr>
              <a:t>'nin hiçbir satırı tekrar değildir: Hep aynı şeydir, hep yenidir. </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3959055C-E6DC-4994-A273-EF613A534E4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395280" y="1530000"/>
            <a:ext cx="8229600" cy="4707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Psikiyatri denince akla gelen ilk isim, hiç şüphesiz Sigmund Freud'dur. Gerek bu dalın kurucusu olması, gerek alana ait tüm ön kabullerin yerleşmesinde payı olması Freud'a gönderme yapmaksızın psikiyatriyle ilgili bir değerlendirme yapmayı imkânsız kılmaktadır. Psikiyatrideki Freud hâkimiyeti öylesine belirgindir ki, ondan birkaç adım daha ileride olmalarına rağmen Adler, Horney gibi önemli psikiyatrlar bile onun gölgesi altında ezilmiş, hak ettikleri saygıdan yoksun kalmışlardı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Carl Gustav Jung'un yirminci yüzyılın ilk yıllarında oluşmaya başlayan bu disiplin içindeki hikâyesi ise daha orijinaldir. Başlangıç itibarıyla Freud'un öğrencisi olan, onun varisi olarak görülen Jung, Freud'un cinsellik konusundaki göndermelerini aşırı bularak onunla yollarını ayırmış ve kendi psikiyatri anlayışını geliştirerek analitik psikoloji okulunu kurmuştur. Modernitenin yılmaz savaşçısı Freud'a kıyasla, geleneksel olana yönelik ilgisi, onun modernizme eleştirel yaklaşan düşünce akımlarınca el üstünde tutulması sonucunu doğurmuştur. Metis Yayınları'nın, Jung'un dört farklı yazısını bir araya getirerek yayımladığı Dört Arketip kitabının, Jung'u bir tarafgirlik-karşıtlık tuzağına düşmeden değerlendirmeye imkân verdiği için önemli olduğunu düşünüyoruz. Kitapta, Jung terminolojisinin önemli kavramlarının (arketip, kolektif bilinçdışı gibi) neye karşılık geldiğini görme şansınız olacak....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DC4291F-F051-4D06-BD9E-766EFADEB7D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9" name="" descr=""/>
          <p:cNvPicPr/>
          <p:nvPr/>
        </p:nvPicPr>
        <p:blipFill>
          <a:blip r:embed="rId1"/>
          <a:stretch/>
        </p:blipFill>
        <p:spPr>
          <a:xfrm>
            <a:off x="0" y="44280"/>
            <a:ext cx="9144000" cy="6813720"/>
          </a:xfrm>
          <a:prstGeom prst="rect">
            <a:avLst/>
          </a:prstGeom>
          <a:ln w="0">
            <a:noFill/>
          </a:ln>
        </p:spPr>
      </p:pic>
      <p:sp>
        <p:nvSpPr>
          <p:cNvPr id="4" name="PlaceHolder 3"/>
          <p:cNvSpPr>
            <a:spLocks noGrp="1"/>
          </p:cNvSpPr>
          <p:nvPr>
            <p:ph type="sldNum" idx="3"/>
          </p:nvPr>
        </p:nvSpPr>
        <p:spPr/>
        <p:txBody>
          <a:bodyPr/>
          <a:p>
            <a:fld id="{DFC9ADD2-D015-44A1-9256-111097B6A18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250920" y="1458720"/>
            <a:ext cx="8229600" cy="47782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İnsanoğlunun, kendisi dışındaki varlıkları yine kendine benzer şekilde hayal etmesi en temel düşünme biçimlerinden biri. Hemen her canlı varlık, çevresini kendine göre algılar ve zihninde konumlandırır. İnsanlar da bu nedenle, soyut ve metafizik varlıkları da insan biçimli düşünme ve sembolize etme eğiliminde olurlar. Markalar, da zihinde insan karakteristikleri ile canlanır. Başka bir deyişle her marka bir imaja ve bu imajı taşıyan belli bir kişiliğe sahiptir. Bu durumda bir markadan bahsettiğimizde zihnimiz o markayı tıpkı bir insan gibi algılayarak ona kişilik kazandırıyor.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Bu nedenle tüketicinin gözünde her markanın kendine özgü değerleri, vaadi, dünya görüşü yanında yine insanlara benzer şekilde farklı inançları veya tutkuları olabilir. Son yıllarda rekabet yoğunluğu ve ürünler arası farkların azalması gibi nedenlerle, markalar sadakat yaratmak için tüketicilerin zihinlerine ve duygularına eğilmeye başladı. Bu nedenle psikoloji kökenli yaklaşımların pazarlama alanında daha yoğun şekilde kullanıldığını görmeye başladık. Marka kişiliği duygusal bağ kurmada ve tüketiciye kimlik kazandırmada birincil öneme sahiptir. Bu konuda çalışmalar yeni olmakla birlikte bu araç 1960'lardan bu yana farklı başlıklar altında kendini göstermekteydi. Günümüz akademik dünyasında marka kişiliği beşli bir modelle açıklanıyor.</a:t>
            </a:r>
            <a:br>
              <a:rPr sz="1600"/>
            </a:br>
            <a:br>
              <a:rPr sz="1600"/>
            </a:b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72B1A5F8-594D-478A-A27E-24B361040B2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395280" y="1459080"/>
            <a:ext cx="8229600" cy="4633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	</a:t>
            </a:r>
            <a:r>
              <a:rPr b="0" lang="tr-TR" sz="1600" spc="-1" strike="noStrike">
                <a:solidFill>
                  <a:srgbClr val="000000"/>
                </a:solidFill>
                <a:latin typeface="Arial"/>
              </a:rPr>
              <a:t>	</a:t>
            </a:r>
            <a:r>
              <a:rPr b="0" lang="tr-TR" sz="1600" spc="-1" strike="noStrike">
                <a:solidFill>
                  <a:srgbClr val="000000"/>
                </a:solidFill>
                <a:latin typeface="Arial"/>
              </a:rPr>
              <a:t>J. Aaker’in 1997 tarihli modeli, psikoloji literatüründe kullanılan kişilik tipolojilerine (big five) benzer şekilde temel marka kişiliklerini ortaya koydu. Aaker bunları, Samimiyet (Sincerity), Coşku (Excitement) Ustalık (Competence), Seçkinlik (Sophistication), Sertlik (Ruggedness) şeklinde ifade eder. Günümüzde marka kişilik ölçümüne yönelik bu yaklaşım soyut olduğu ve fazla genelleştirici olup markalar arası kişilik farklarını göstermede yetersiz kaldığı için kullanışlı bulunmuyor.Bu açıdan son yıllarda dikkat çeken alternatif çalışmalar yapılmakta. Dr. Clotaire Rapaille*, Carol Pearson gibi isimler ve Brandhouse, BrandSolutions, Alexander Dunlop gibi danışmanlık firmaları Carl Jung’un arketiplere dayalı düşüncesini pazarlamada kullanıyorlar.</a:t>
            </a:r>
            <a:br>
              <a:rPr sz="1600"/>
            </a:br>
            <a:r>
              <a:rPr b="0" lang="tr-TR" sz="1600" spc="-1" strike="noStrike">
                <a:solidFill>
                  <a:srgbClr val="000000"/>
                </a:solidFill>
                <a:latin typeface="Arial"/>
              </a:rPr>
              <a:t>	</a:t>
            </a:r>
            <a:r>
              <a:rPr b="0" lang="tr-TR" sz="1600" spc="-1" strike="noStrike">
                <a:solidFill>
                  <a:srgbClr val="000000"/>
                </a:solidFill>
                <a:latin typeface="Arial"/>
              </a:rPr>
              <a:t>Jung, diğer psikanalistlerden farklı olarak, insanları dışarıdan gözlemleyip sonuçlar çıkarmak yerine, insanların davranışlarını gerçekleştirirken hissettikleri duyguları ve hayalleri (içinde yaşadıkları fantezileri) inceledi ve buna göre insanların iç dünyalarında etkin olan potansiyel güçleri (arketipleri) ortaya çıkardı. Donah Zohar’ın 2000’de moda ettiği, iş dünyasında da kullanılmakta olan “ruhsal zeka” kuramı da Jung’un fikirlerine dayanıyor. Donah Zohar’a göre insanların genel karakter tipolojilerini ve potansiyel zekalarını oluşturan arketipler şunlardır:</a:t>
            </a:r>
            <a:br>
              <a:rPr sz="1600"/>
            </a:br>
            <a:br>
              <a:rPr sz="1600"/>
            </a:b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472FA97E-EB86-45E5-A12F-6E04B2773F6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6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4" name=""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sldNum" idx="3"/>
          </p:nvPr>
        </p:nvSpPr>
        <p:spPr/>
        <p:txBody>
          <a:bodyPr/>
          <a:p>
            <a:fld id="{2144F88F-4577-4D01-A6F5-FB8FA3C5FDB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457200" y="1483920"/>
            <a:ext cx="8229600" cy="45356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a:rPr>
              <a:t>	</a:t>
            </a:r>
            <a:r>
              <a:rPr b="1" lang="tr-TR" sz="3200" spc="-1" strike="noStrike">
                <a:solidFill>
                  <a:srgbClr val="000000"/>
                </a:solidFill>
                <a:latin typeface="Arial"/>
              </a:rPr>
              <a:t>Geleneksel:</a:t>
            </a:r>
            <a:r>
              <a:rPr b="0" lang="tr-TR" sz="3200" spc="-1" strike="noStrike">
                <a:solidFill>
                  <a:srgbClr val="000000"/>
                </a:solidFill>
                <a:latin typeface="Arial"/>
              </a:rPr>
              <a:t> Satürn, kabile, hafıza, kök, bürokrasi, sıradan insan arketipleri</a:t>
            </a:r>
            <a:br>
              <a:rPr sz="3200"/>
            </a:br>
            <a:r>
              <a:rPr b="1" lang="tr-TR" sz="3200" spc="-1" strike="noStrike">
                <a:solidFill>
                  <a:srgbClr val="000000"/>
                </a:solidFill>
                <a:latin typeface="Arial"/>
              </a:rPr>
              <a:t>Sosyal:</a:t>
            </a:r>
            <a:r>
              <a:rPr b="0" lang="tr-TR" sz="3200" spc="-1" strike="noStrike">
                <a:solidFill>
                  <a:srgbClr val="000000"/>
                </a:solidFill>
                <a:latin typeface="Arial"/>
              </a:rPr>
              <a:t> Tabiat ana, annelik, üreme, aşk, sevgi arketipleri</a:t>
            </a:r>
            <a:br>
              <a:rPr sz="3200"/>
            </a:br>
            <a:r>
              <a:rPr b="1" lang="tr-TR" sz="3200" spc="-1" strike="noStrike">
                <a:solidFill>
                  <a:srgbClr val="000000"/>
                </a:solidFill>
                <a:latin typeface="Arial"/>
              </a:rPr>
              <a:t>Araştırmacı:</a:t>
            </a:r>
            <a:r>
              <a:rPr b="0" lang="tr-TR" sz="3200" spc="-1" strike="noStrike">
                <a:solidFill>
                  <a:srgbClr val="000000"/>
                </a:solidFill>
                <a:latin typeface="Arial"/>
              </a:rPr>
              <a:t> Merkür, Hermes, haber, bilgi, ölümsüz çocuk (Peter Pan) arketipleri</a:t>
            </a:r>
            <a:br>
              <a:rPr sz="3200"/>
            </a:br>
            <a:r>
              <a:rPr b="1" lang="tr-TR" sz="3200" spc="-1" strike="noStrike">
                <a:solidFill>
                  <a:srgbClr val="000000"/>
                </a:solidFill>
                <a:latin typeface="Arial"/>
              </a:rPr>
              <a:t>Gerçekçi:</a:t>
            </a:r>
            <a:r>
              <a:rPr b="0" lang="tr-TR" sz="3200" spc="-1" strike="noStrike">
                <a:solidFill>
                  <a:srgbClr val="000000"/>
                </a:solidFill>
                <a:latin typeface="Arial"/>
              </a:rPr>
              <a:t> Mars, Kahraman, savaşçı, Şiva gibi arketipler</a:t>
            </a:r>
            <a:br>
              <a:rPr sz="3200"/>
            </a:br>
            <a:r>
              <a:rPr b="1" lang="tr-TR" sz="3200" spc="-1" strike="noStrike">
                <a:solidFill>
                  <a:srgbClr val="000000"/>
                </a:solidFill>
                <a:latin typeface="Arial"/>
              </a:rPr>
              <a:t>Girişimci:</a:t>
            </a:r>
            <a:r>
              <a:rPr b="0" lang="tr-TR" sz="3200" spc="-1" strike="noStrike">
                <a:solidFill>
                  <a:srgbClr val="000000"/>
                </a:solidFill>
                <a:latin typeface="Arial"/>
              </a:rPr>
              <a:t> Jupiter, Zeus, liderlik, güç, otorite, büyük baba, bilgelik arketipleri</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8E70AD0E-E1EE-47E0-B031-484FF5FC589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395280" y="1628280"/>
            <a:ext cx="8229600" cy="39610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	</a:t>
            </a:r>
            <a:r>
              <a:rPr b="1" lang="tr-TR" sz="1800" spc="-1" strike="noStrike">
                <a:solidFill>
                  <a:srgbClr val="000000"/>
                </a:solidFill>
                <a:latin typeface="Arial"/>
              </a:rPr>
              <a:t>Arketip Kavramı ve Marka Kişilikleri</a:t>
            </a:r>
            <a:r>
              <a:rPr b="0" lang="tr-TR" sz="1800" spc="-1" strike="noStrike">
                <a:solidFill>
                  <a:srgbClr val="000000"/>
                </a:solidFill>
                <a:latin typeface="Arial"/>
              </a:rPr>
              <a:t>                </a:t>
            </a:r>
            <a:r>
              <a:rPr b="0" lang="tr-TR"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Arketip (archetype) terimi, psikolojide ilk defa Carl Gustav Jung (1875-1961) tarafından kullanılmıştır. Kelime anlamıyla kalıp, şablon, ilktip şeklinde ifade edilen arketipler aslında insan kültürünü oluşturan temel yapı taşlarıdı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İnsanların uzun dönemler boyunca karşılaştığı benzer olaylar bir süre sonra belli tecrübi davranış kalıplarını oluşturmuş ve bu kalıplar kuşaklar boyunca aktarılmaya başlanmıştı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Böylece hemen her bireyin karşılaşmak durumunda olduğu anne, baba, erkek, kadın gibi kavram ve roller ile geçimini sağlamak, eş ve arkadaş bulmak, yolculuğa çıkmak vb. roller arketip denilen şablonları ortaya çıkardı. Bu anlamda her arketip için belli sosyal ve psikolojik durumlara cevaben ortaya çıkmış “prototip-ilktip” tanımlaması yapılabilir.</a:t>
            </a:r>
            <a:br>
              <a:rPr sz="1800"/>
            </a:br>
            <a:br>
              <a:rPr sz="1800"/>
            </a:b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47542D6-C4D4-466D-9982-CB1072FEEF6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6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9" name=""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sldNum" idx="3"/>
          </p:nvPr>
        </p:nvSpPr>
        <p:spPr/>
        <p:txBody>
          <a:bodyPr/>
          <a:p>
            <a:fld id="{066C73D1-CB8E-48F4-A5C7-DBC51007C52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57200" y="1557360"/>
            <a:ext cx="8229600" cy="44625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İÇİNDEKİLE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Sunuş: "Carl Gustav Jung: Nesnel Ruh'un Şamanı",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Bilgin Saydam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I Anne Arketipinin Psikolojik Yönler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	</a:t>
            </a:r>
            <a:r>
              <a:rPr b="0" lang="tr-TR" sz="2000" spc="-1" strike="noStrike">
                <a:solidFill>
                  <a:srgbClr val="000000"/>
                </a:solidFill>
                <a:latin typeface="Arial"/>
              </a:rPr>
              <a:t>1 Arketip Kavramı Üzerin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	</a:t>
            </a:r>
            <a:r>
              <a:rPr b="0" lang="tr-TR" sz="2000" spc="-1" strike="noStrike">
                <a:solidFill>
                  <a:srgbClr val="000000"/>
                </a:solidFill>
                <a:latin typeface="Arial"/>
              </a:rPr>
              <a:t>2 Anne Arketip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	</a:t>
            </a:r>
            <a:r>
              <a:rPr b="0" lang="tr-TR" sz="2000" spc="-1" strike="noStrike">
                <a:solidFill>
                  <a:srgbClr val="000000"/>
                </a:solidFill>
                <a:latin typeface="Arial"/>
              </a:rPr>
              <a:t>3 Anne Kompleks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	</a:t>
            </a:r>
            <a:r>
              <a:rPr b="0" lang="tr-TR" sz="2000" spc="-1" strike="noStrike">
                <a:solidFill>
                  <a:srgbClr val="000000"/>
                </a:solidFill>
                <a:latin typeface="Arial"/>
              </a:rPr>
              <a:t>4 Öze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II Yeniden Doğuş Üzerin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	</a:t>
            </a:r>
            <a:r>
              <a:rPr b="0" lang="tr-TR" sz="2000" spc="-1" strike="noStrike">
                <a:solidFill>
                  <a:srgbClr val="000000"/>
                </a:solidFill>
                <a:latin typeface="Arial"/>
              </a:rPr>
              <a:t>1 Yeniden Doğuş Biçimler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	</a:t>
            </a:r>
            <a:r>
              <a:rPr b="0" lang="tr-TR" sz="2000" spc="-1" strike="noStrike">
                <a:solidFill>
                  <a:srgbClr val="000000"/>
                </a:solidFill>
                <a:latin typeface="Arial"/>
              </a:rPr>
              <a:t>2 Yeniden Doğuş Psikolojis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	</a:t>
            </a:r>
            <a:r>
              <a:rPr b="0" lang="tr-TR" sz="2000" spc="-1" strike="noStrike">
                <a:solidFill>
                  <a:srgbClr val="000000"/>
                </a:solidFill>
                <a:latin typeface="Arial"/>
              </a:rPr>
              <a:t>3 Dönüşüm Sürecini Canlandıran Bir Simge Dizisi Örneğ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III Masallarda Ruhun Fenomenolojisi Üzerin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IV Hilebaz Figürünün Psikolojisi Üzeri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1B415436-D8E1-4F05-B945-358D3CF4F0F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324000" y="1484280"/>
            <a:ext cx="8229600" cy="4464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Jung, yaşamının son kırk yılında arketipleri araştırmaya yönelmişti. Tanımını yaptığı arketipler arasında, doğum, yeniden dünyaya geliş, ölüm, güçlülük, sihir, kahraman, çocuk, yaşlı bilge, hilebaz, toprak ana, dev gibi imgeler; ağaç, güneş, ay, rüzgar, ırmak, ateş ve hayvanlar gibi doğal objeler ile yüzük ve silah gibi insan yapısı objeler sayılabilir.Arketiplerin bir özelliği de evrensel olmalarıdır, hemen her insanın karşılaşmak durumunda olduğu temel olaylar insanların aynı arketip imgelerine sahip olmasını sağlar. Bir çocuk dünyanın neresinde doğarsa doğsun, anne, baba, yönetici, koruyucu vb. arketiplere sahip olacaktı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Mesela bir insanın yılandan veya karanlıktan korkması için yılanla karşılaşmış ya da karanlıkta kalmış olması gerekmez. Yılandan ya da karanlıktan korkma eğilimleri, insanoğlunun kuşaklar boyu süren yaşamları sonucu hem kültürel hem de biyolojik olarak bize aktarılmış ve zihnimize işlenmiştir. Bu bağlamda arketipler, bir insanın geçmiş yaşantılarının ürünü olan hafıza imgeleri gibi canlı görüntüler de değildi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Örneğin anne arketipi, bir kadın ya da annenin fotoğrafı değildir.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E14F104-B8A4-4020-8539-0B2FCEC2743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324000" y="1557360"/>
            <a:ext cx="8229600" cy="439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Eğer bir benzetme yapmak gerekirse, arketipler, banyo edilmesi gereken negatif filmleri andırırlar. Gerçek dünyada bir karşılığı olduğunda, bu belirsiz imgeler canlı ya da cansız varlıklara dönüşürler.Bununla beraber arketipler bağımsız yapılar oldukları gibi, bazen bir araya gelerek yeni bileşimleri de oluşturabilirler. Örneğin kahraman arketipi, şeytan arketipiyle birleşerek “acımasız lider” tipinde bir insanı oluşturabilir.Arketiplere mitoloji, masal ve edebiyatta çok sık rastlarız.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Mitolojide gördüğümüz Zeus vb. tanrılar, asi kahramanlar ve büyücü, cadı gibi temel karakterler aslında her çağda sözü edilen karakterlerdir. Shakespeare’in eserlerindeki Kral Lear, Hamlet gibi tiplemeler de bu arketiplerin bir uzantısı şeklinde görülebilir. Filmlerde de arketiplere rastlarız.</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Örneğin “Baba” filmi tipik bir “kral” arketipini anlatırken, Ben Hur, Braveheart gibi filmlerde “kahraman” arketipini görürüz.Carl Gustav Jung’un geliştirmiş olduğu arketipal yaklaşım markalar için de oldukça işlevsel kişilik tiplojileri sunuyor. Bu bakış açısıyla her marka’nın kişiliği bir veya birkaç uyumlu arketipin bileşimi şeklinde ele alınabilmekte.</a:t>
            </a:r>
            <a:br>
              <a:rPr sz="1800"/>
            </a:br>
            <a:br>
              <a:rPr sz="1800"/>
            </a:b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5228508-D409-4310-BAB8-6687E969D3A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7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4" name=""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sldNum" idx="3"/>
          </p:nvPr>
        </p:nvSpPr>
        <p:spPr/>
        <p:txBody>
          <a:bodyPr/>
          <a:p>
            <a:fld id="{ED993B79-6A30-45DD-8DE9-4B35A6DC03B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68360" y="1700280"/>
            <a:ext cx="8229600" cy="3959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tratejik Açıdan Marka Kişilikleri</a:t>
            </a:r>
            <a:br>
              <a:rPr sz="2000"/>
            </a:br>
            <a:r>
              <a:rPr b="0" lang="en-US" sz="2000" spc="-1" strike="noStrike">
                <a:solidFill>
                  <a:srgbClr val="000000"/>
                </a:solidFill>
                <a:latin typeface="Arial"/>
              </a:rPr>
              <a:t>            Marka kişiliği markanın tüketicilerle olan iletişimini biçimlendiren stratejik bir araçtır. Çünkü markalar tüketicilerin zihninde kişilikleri aracılığıyla kendilerini yansıtabilir ve anlatabilirler. Bu noktada tüketiciyle daha yakın, daha sadık ilişkiler kurabilmek veya tüketicinin zihninde farklılaşabilmek için marka kişiliği anahtar bir kavram halini almaktadır.Marka kişiliği, markanın mesajını aktarırken kullanacağı genel tarzı ve tutumu ifade eder. Bu anlamda duygusal bağ kurmak açısından çok önemli bir unsurdur. Bu yüzden markaların kişililik inşa ederken, tüketicilerin markayı hangi durum ve koşullara bağlı olarak tercih ettiklerine bakıp o durumlara uygun imaj ve duygu formlarını (arketipleri) belirlemeleri gerekiyor.Marka kişiliği bir arketipe dayandığında daha kolay fark edilmekte ve insanların zihninde daha güçlü bir yer edinmektedir. </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9A5E437D-379C-490A-A3A0-3D9531A2867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395280" y="1628280"/>
            <a:ext cx="8229600" cy="40323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Örneğin Virgin markası Richard Branson’ın liderliğiyle de paralel şekilde “kahraman” arketipini temsil eder. Zamanında, büyük yapımcı firmalara karşı Virgin firmasını kurarak müzisyenlere kol kanat geren ve gördüğü her eksikliği bir tüketici refleksiyle yanıtlamış; mesela dev havayolu firmalarının rötarlı seferlerine karşı kurmuş olduğu uçak filosu gibi, bunlar Virgin’i giderek bir “Robin Hood” karakteri haline getirmişt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Sonuç olarak “asi” ve “kahraman” gibi arketipal öğeler Virgin’in marka öz değerini çok iyi ifade ederek markayı tüketicinin zihninde rakiplerinden farklılaştırmıştır.Carol Pearson, 1998 tarihli Awakening the Heroes Within: Twelve Archetypes to Help Us Find Ourselves and Transform the World isimli çalışmasında, Jung’un “evrendeki varlıkların sayısı kadar” dediği arketiplerin temel olanlarını belirlemeye çalışmıştır. Bu yaklaşıma göre başlıca 12 prototipten bahsedilebilir:</a:t>
            </a:r>
            <a:br>
              <a:rPr sz="1800"/>
            </a:br>
            <a:br>
              <a:rPr sz="1800"/>
            </a:b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A4C44B2-004A-4620-B153-61E1075DB65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7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9" name=""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sldNum" idx="3"/>
          </p:nvPr>
        </p:nvSpPr>
        <p:spPr/>
        <p:txBody>
          <a:bodyPr/>
          <a:p>
            <a:fld id="{B1BFB13A-E38B-4A23-B73F-6495306857B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3995280" y="1628640"/>
            <a:ext cx="4691160" cy="43912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	</a:t>
            </a:r>
            <a:r>
              <a:rPr b="1" lang="tr-TR" sz="1800" spc="-1" strike="noStrike">
                <a:solidFill>
                  <a:srgbClr val="000000"/>
                </a:solidFill>
                <a:latin typeface="Arial"/>
              </a:rPr>
              <a:t>	</a:t>
            </a:r>
            <a:r>
              <a:rPr b="1" lang="tr-TR" sz="1800" spc="-1" strike="noStrike">
                <a:solidFill>
                  <a:srgbClr val="000000"/>
                </a:solidFill>
                <a:latin typeface="Arial"/>
              </a:rPr>
              <a:t>Yaratıcı (Creator):</a:t>
            </a:r>
            <a:r>
              <a:rPr b="0" lang="tr-TR" sz="1800" spc="-1" strike="noStrike">
                <a:solidFill>
                  <a:srgbClr val="000000"/>
                </a:solidFill>
                <a:latin typeface="Arial"/>
              </a:rPr>
              <a:t> Bu arketip kalıcı değerler üreten sanatçı kişiliği karşılamaktadır. Sınırsız hayal gücünü temel alan, sürekli yenilik ve icat yapan markalar için ideal bir kişiliktir. Örneğin Apple marka kişiliğini bu arketiple ifade eder. Apple’ın logosundaki yasak elma bilgi ağacından koparılmış gizli bilgiyi ve yaratıcılığı göstermektedir. Lego, Sony, Swatch ve 3M gibi dizayn ve teknolojide yenilikçi bakış açılarından beslenen markalar bu arketipten güç alırlar. Türkiye’de Arstil, Kelebek, Zeki Triko markaları bu yolda ilerlemektedir.</a:t>
            </a:r>
            <a:br>
              <a:rPr sz="1800"/>
            </a:br>
            <a:br>
              <a:rPr sz="1800"/>
            </a:br>
            <a:endParaRPr b="0" lang="en-US" sz="1800" spc="-1" strike="noStrike">
              <a:solidFill>
                <a:srgbClr val="000000"/>
              </a:solidFill>
              <a:latin typeface="Arial"/>
            </a:endParaRPr>
          </a:p>
        </p:txBody>
      </p:sp>
      <p:pic>
        <p:nvPicPr>
          <p:cNvPr id="181" name="" descr=""/>
          <p:cNvPicPr/>
          <p:nvPr/>
        </p:nvPicPr>
        <p:blipFill>
          <a:blip r:embed="rId1"/>
          <a:stretch/>
        </p:blipFill>
        <p:spPr>
          <a:xfrm>
            <a:off x="611280" y="1700280"/>
            <a:ext cx="3456000" cy="4248000"/>
          </a:xfrm>
          <a:prstGeom prst="rect">
            <a:avLst/>
          </a:prstGeom>
          <a:ln w="0">
            <a:noFill/>
          </a:ln>
        </p:spPr>
      </p:pic>
      <p:sp>
        <p:nvSpPr>
          <p:cNvPr id="3" name="PlaceHolder 2"/>
          <p:cNvSpPr>
            <a:spLocks noGrp="1"/>
          </p:cNvSpPr>
          <p:nvPr>
            <p:ph type="sldNum" idx="3"/>
          </p:nvPr>
        </p:nvSpPr>
        <p:spPr/>
        <p:txBody>
          <a:bodyPr/>
          <a:p>
            <a:fld id="{0F589950-8E18-43BD-8820-A36C6C68748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4066920" y="1628640"/>
            <a:ext cx="4249800" cy="43912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	</a:t>
            </a:r>
            <a:r>
              <a:rPr b="1" lang="tr-TR" sz="1600" spc="-1" strike="noStrike">
                <a:solidFill>
                  <a:srgbClr val="000000"/>
                </a:solidFill>
                <a:latin typeface="Arial"/>
              </a:rPr>
              <a:t>	</a:t>
            </a:r>
            <a:r>
              <a:rPr b="1" lang="tr-TR" sz="1600" spc="-1" strike="noStrike">
                <a:solidFill>
                  <a:srgbClr val="000000"/>
                </a:solidFill>
                <a:latin typeface="Arial"/>
              </a:rPr>
              <a:t>Düzenleyici (Ruler):</a:t>
            </a:r>
            <a:r>
              <a:rPr b="0" lang="tr-TR" sz="1600" spc="-1" strike="noStrike">
                <a:solidFill>
                  <a:srgbClr val="000000"/>
                </a:solidFill>
                <a:latin typeface="Arial"/>
              </a:rPr>
              <a:t> Bu arketip temelinde güç, iktidar ve kontrol olan yönetici, patron, kral vb. karakterleri ifade eder. Karmaşık durumları çözen, sorunların üstesinden gelen güvenilir bir kişiliği yansıtır. Mutlak gücü ve üst düzeyde zenginliği ifade eder. Prestij ve yüksek statü sahibi olan IBM, Mercedes, Hilton gibi markalar bu kimliktedirler. Türk markaları arasında seçkinliği ve üst düzeyde kalitesiyle Vakko’yu, güçlü filosu ve yüksek kaliteli servisiyle THY’yi, özel toplantılara mükemmel düzeyde ev sahipliği yapmasıyla Divan otel ve pastaneleri’ni, Tansaş (Akıl almaz tüketici hakları kampanyası), Aksigorta (Ak güvencesi), Escort computer, Koç Holding, İstikbal, Petrol Ofisi, Hürriyet Gazetesi’ni sayabiliriz.</a:t>
            </a:r>
            <a:br>
              <a:rPr sz="1600"/>
            </a:br>
            <a:br>
              <a:rPr sz="1600"/>
            </a:br>
            <a:endParaRPr b="0" lang="en-US" sz="1600" spc="-1" strike="noStrike">
              <a:solidFill>
                <a:srgbClr val="000000"/>
              </a:solidFill>
              <a:latin typeface="Arial"/>
            </a:endParaRPr>
          </a:p>
        </p:txBody>
      </p:sp>
      <p:pic>
        <p:nvPicPr>
          <p:cNvPr id="183" name="" descr=""/>
          <p:cNvPicPr/>
          <p:nvPr/>
        </p:nvPicPr>
        <p:blipFill>
          <a:blip r:embed="rId1"/>
          <a:stretch/>
        </p:blipFill>
        <p:spPr>
          <a:xfrm>
            <a:off x="611280" y="1557360"/>
            <a:ext cx="3313080" cy="4103640"/>
          </a:xfrm>
          <a:prstGeom prst="rect">
            <a:avLst/>
          </a:prstGeom>
          <a:ln w="0">
            <a:noFill/>
          </a:ln>
        </p:spPr>
      </p:pic>
      <p:sp>
        <p:nvSpPr>
          <p:cNvPr id="3" name="PlaceHolder 2"/>
          <p:cNvSpPr>
            <a:spLocks noGrp="1"/>
          </p:cNvSpPr>
          <p:nvPr>
            <p:ph type="sldNum" idx="3"/>
          </p:nvPr>
        </p:nvSpPr>
        <p:spPr/>
        <p:txBody>
          <a:bodyPr/>
          <a:p>
            <a:fld id="{A54AB2C0-48F2-403A-B3A7-2DD819D2438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3850920" y="1557360"/>
            <a:ext cx="4608360" cy="446256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	</a:t>
            </a:r>
            <a:r>
              <a:rPr b="1" lang="tr-TR" sz="1200" spc="-1" strike="noStrike">
                <a:solidFill>
                  <a:srgbClr val="000000"/>
                </a:solidFill>
                <a:latin typeface="Arial"/>
              </a:rPr>
              <a:t>	</a:t>
            </a:r>
            <a:r>
              <a:rPr b="1" lang="tr-TR" sz="1200" spc="-1" strike="noStrike">
                <a:solidFill>
                  <a:srgbClr val="000000"/>
                </a:solidFill>
                <a:latin typeface="Arial"/>
              </a:rPr>
              <a:t>İyileştirici (Caregiver):</a:t>
            </a:r>
            <a:r>
              <a:rPr b="0" lang="tr-TR" sz="1200" spc="-1" strike="noStrike">
                <a:solidFill>
                  <a:srgbClr val="000000"/>
                </a:solidFill>
                <a:latin typeface="Arial"/>
              </a:rPr>
              <a:t> Bu arketipin temelinde insanlara iyilik yapmaktan mutluluk duymak yatar. İnsanlara yardımcı olmak, desteklemek, düzeltici olmak gibi özellikler taşır. Özellikle aziz, ebeveyn, dadı ve hasta bakıcı karakterlerinde kendini gösterir. Sigorta, hastane ve medikal endüstrisi için çok uygun bir marka kişiliğidir, ayrıca yardım kuruluşları ve insan hakları örgütlerini bu bağlamda sayabiliriz. Ünlü İngiliz hemşire yardımsever Florence Nightingale ve onun ismiyle kurulan hastane açıkça bu arketipi temsil eder. Türkiye’de bu açıdan tarihi gelenekler olmasına rağmen bunların ticari hayata çok fazla aktarılmadığını görürüz.Genelde eğlenceyle özdeşleştirilen Coca Cola dahi aslında ilk ortaya çıktığı yıllarda bir eczacının keşfettiği ilaç olarak piyasaya sürüldü. Günümüzde de tazelenme, yenilenme, rahatlama ve eğlenceli olma gibi özelliklerini “hayatın tadı” sloganıyla gösteriyor. Genellikle hayatla ilgili iyimser bir atmosfer yaratmaya çalışan Coca Cola’nın marka kişiliğinde yaşamın iyileştirilmesi ön plandadır. Dolayısıyla Coca Cola’nın (ilk önce ilaç olarak piyasaya çıktığı da düşünüldüğünde) iyileştirici (şifacı) arketipe sahip olduğunu söyleyebiliriz. Güvenliği birinci sırada tutan Volvo’yu da bu kategoride inceleyebiliriz.Türkiye’de bu arketiple hareket eden markalar arasında Eczacıbaşı’nı, “Bütün kadınlar çiçektir ve çiçekler su ister” diyen Arko’yu ve Activia, Becel, Yataş, Protex markalarını sayabiliriz. </a:t>
            </a:r>
            <a:endParaRPr b="0" lang="en-US" sz="1200" spc="-1" strike="noStrike">
              <a:solidFill>
                <a:srgbClr val="000000"/>
              </a:solidFill>
              <a:latin typeface="Arial"/>
            </a:endParaRPr>
          </a:p>
        </p:txBody>
      </p:sp>
      <p:pic>
        <p:nvPicPr>
          <p:cNvPr id="185" name="" descr=""/>
          <p:cNvPicPr/>
          <p:nvPr/>
        </p:nvPicPr>
        <p:blipFill>
          <a:blip r:embed="rId1"/>
          <a:stretch/>
        </p:blipFill>
        <p:spPr>
          <a:xfrm>
            <a:off x="684360" y="1628640"/>
            <a:ext cx="2884320" cy="4105440"/>
          </a:xfrm>
          <a:prstGeom prst="rect">
            <a:avLst/>
          </a:prstGeom>
          <a:ln w="0">
            <a:noFill/>
          </a:ln>
        </p:spPr>
      </p:pic>
      <p:sp>
        <p:nvSpPr>
          <p:cNvPr id="3" name="PlaceHolder 2"/>
          <p:cNvSpPr>
            <a:spLocks noGrp="1"/>
          </p:cNvSpPr>
          <p:nvPr>
            <p:ph type="sldNum" idx="3"/>
          </p:nvPr>
        </p:nvSpPr>
        <p:spPr/>
        <p:txBody>
          <a:bodyPr/>
          <a:p>
            <a:fld id="{CE42D5CF-61AA-4C42-A487-1B6E4669D52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3995280" y="1699920"/>
            <a:ext cx="4248360" cy="43196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	</a:t>
            </a:r>
            <a:r>
              <a:rPr b="1" lang="tr-TR" sz="1400" spc="-1" strike="noStrike">
                <a:solidFill>
                  <a:srgbClr val="000000"/>
                </a:solidFill>
                <a:latin typeface="Arial"/>
              </a:rPr>
              <a:t>	</a:t>
            </a:r>
            <a:r>
              <a:rPr b="1" lang="tr-TR" sz="1400" spc="-1" strike="noStrike">
                <a:solidFill>
                  <a:srgbClr val="000000"/>
                </a:solidFill>
                <a:latin typeface="Arial"/>
              </a:rPr>
              <a:t>Bilge (Sage):</a:t>
            </a:r>
            <a:r>
              <a:rPr b="0" lang="tr-TR" sz="1400" spc="-1" strike="noStrike">
                <a:solidFill>
                  <a:srgbClr val="000000"/>
                </a:solidFill>
                <a:latin typeface="Arial"/>
              </a:rPr>
              <a:t> Bu arketip bilginin insanı özgürleştirdiği motifinden hareket eder. Doğru ve yanlışın ayırtında olma, bilgi ve ustalık özellikleriyle yaşlı bilge, filozof, ermiş, uzman, bilim adamı ve öğretmen isimlerini almıştır. Müşterilerine bilimsel açıdan yaklaşan ve farklı seçeneklerde çözümler sunan, onları bilgi ve görüş açısından geliştiren markalar bu arketipe sahipt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	</a:t>
            </a:r>
            <a:r>
              <a:rPr b="0" lang="tr-TR" sz="1400" spc="-1" strike="noStrike">
                <a:solidFill>
                  <a:srgbClr val="000000"/>
                </a:solidFill>
                <a:latin typeface="Arial"/>
              </a:rPr>
              <a:t> </a:t>
            </a:r>
            <a:r>
              <a:rPr b="0" lang="tr-TR" sz="1400" spc="-1" strike="noStrike">
                <a:solidFill>
                  <a:srgbClr val="000000"/>
                </a:solidFill>
                <a:latin typeface="Arial"/>
              </a:rPr>
              <a:t>Harvard, Oxford, CNN, Gallup, A.C. Nilsen, Milupa gibi markalarda bu karakteri görürüz. Bosch da “insanların güvenini kaybetmektense para kaybetmeyi tercih ederim” diyerek bilgeliğini göstermiştir. Türkiye için Boğaziçi Üniversitesi, ODTÜ, NTV, CNN Türk, Habertürk gibi Tv kanalları, Kurukahveci Mehmet Efendi, Hacı Şakir, Omo (çağdaş anne miti), Paşabahçe markaları sayılabilir. Örneğin, BHU markasını ele alacak olursak, Bolu’lu usta aşçıların kökeni eskilere dayanan bilge arketipini kullandığını görürüz.</a:t>
            </a:r>
            <a:br>
              <a:rPr sz="1400"/>
            </a:br>
            <a:br>
              <a:rPr sz="1400"/>
            </a:br>
            <a:endParaRPr b="0" lang="en-US" sz="1400" spc="-1" strike="noStrike">
              <a:solidFill>
                <a:srgbClr val="000000"/>
              </a:solidFill>
              <a:latin typeface="Arial"/>
            </a:endParaRPr>
          </a:p>
        </p:txBody>
      </p:sp>
      <p:pic>
        <p:nvPicPr>
          <p:cNvPr id="187" name="" descr=""/>
          <p:cNvPicPr/>
          <p:nvPr/>
        </p:nvPicPr>
        <p:blipFill>
          <a:blip r:embed="rId1"/>
          <a:stretch/>
        </p:blipFill>
        <p:spPr>
          <a:xfrm>
            <a:off x="900000" y="1628640"/>
            <a:ext cx="2833920" cy="4032360"/>
          </a:xfrm>
          <a:prstGeom prst="rect">
            <a:avLst/>
          </a:prstGeom>
          <a:ln w="0">
            <a:noFill/>
          </a:ln>
        </p:spPr>
      </p:pic>
      <p:sp>
        <p:nvSpPr>
          <p:cNvPr id="3" name="PlaceHolder 2"/>
          <p:cNvSpPr>
            <a:spLocks noGrp="1"/>
          </p:cNvSpPr>
          <p:nvPr>
            <p:ph type="sldNum" idx="3"/>
          </p:nvPr>
        </p:nvSpPr>
        <p:spPr/>
        <p:txBody>
          <a:bodyPr/>
          <a:p>
            <a:fld id="{4CF03BE6-F145-4B7C-AF28-EEDB26727C7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57200" y="1412640"/>
            <a:ext cx="8229600" cy="4606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	</a:t>
            </a:r>
            <a:r>
              <a:rPr b="0" lang="tr-TR" sz="2400" spc="-1" strike="noStrike">
                <a:solidFill>
                  <a:srgbClr val="000000"/>
                </a:solidFill>
                <a:latin typeface="Arial"/>
              </a:rPr>
              <a:t>İnsan, insan-olmak hususunda bir anlatıya giriştiğinde, irdeleyeceği hep kendisi olacaktır. Bu kendini-anlatma, anlatının hem içeriğinde, hem de biçiminde içkindir. Hiçbir özgün kuram öteki'nden çıkmaz. Her şey "kendi"nin kuramıdır. Öteki, ancak bir ilişki sürecinde, öteki'nde kendini bulmak ve oluşturmak içindir. </a:t>
            </a:r>
            <a:br>
              <a:rPr sz="2400"/>
            </a:br>
            <a:r>
              <a:rPr b="0" lang="tr-TR" sz="2400" spc="-1" strike="noStrike">
                <a:solidFill>
                  <a:srgbClr val="000000"/>
                </a:solidFill>
                <a:latin typeface="Arial"/>
              </a:rPr>
              <a:t>       Metis'in psikiyatri-ve-psikanaliz-klasikleri-serisi "Ötekini Dinlemek", C. G. Jung ile kendisini tekzip ediyor. Serinin elinizdeki kitabının yazarı Carl Gustav Jung (1875-1961) apaçık bir "kendi"-merkeziyetçi-kuramsallık şahikasıdır: </a:t>
            </a:r>
            <a:br>
              <a:rPr sz="2400"/>
            </a:br>
            <a:r>
              <a:rPr b="0" lang="tr-TR" sz="2400" spc="-1" strike="noStrike">
                <a:solidFill>
                  <a:srgbClr val="000000"/>
                </a:solidFill>
                <a:latin typeface="Arial"/>
              </a:rPr>
              <a:t>      </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2818E109-2D0F-4A6D-AB9D-8E33F9EA04C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4211640" y="1628640"/>
            <a:ext cx="4248000" cy="43912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	</a:t>
            </a:r>
            <a:r>
              <a:rPr b="1" lang="tr-TR" sz="1800" spc="-1" strike="noStrike">
                <a:solidFill>
                  <a:srgbClr val="000000"/>
                </a:solidFill>
                <a:latin typeface="Arial"/>
              </a:rPr>
              <a:t>	</a:t>
            </a:r>
            <a:r>
              <a:rPr b="1" lang="tr-TR" sz="1800" spc="-1" strike="noStrike">
                <a:solidFill>
                  <a:srgbClr val="000000"/>
                </a:solidFill>
                <a:latin typeface="Arial"/>
              </a:rPr>
              <a:t>Saf (İnnocent):</a:t>
            </a:r>
            <a:r>
              <a:rPr b="0" lang="tr-TR" sz="1800" spc="-1" strike="noStrike">
                <a:solidFill>
                  <a:srgbClr val="000000"/>
                </a:solidFill>
                <a:latin typeface="Arial"/>
              </a:rPr>
              <a:t> Masumiyet, iyilik ve saflık göstergesidir. Ütopik bir dünyanın hassas temsilcisidir. Melek arketipiyle özdeştir. Böyle bir marka tüketicilere sevimli, çocuksu, otantik, nostaljik, mistik karakterlerde görünebilir. “Coco” lakaplı Gabrielle Chanel’in Cinderella hikayesiyle özdeşleşmiş yaşam öyküsü de bu arketipi yansıtır. Ayrıca Toyota, Dove, Duru, Otacı, Sütaş, Pınar, Falım’da da benzer arketipi görürüz.</a:t>
            </a:r>
            <a:br>
              <a:rPr sz="1800"/>
            </a:br>
            <a:br>
              <a:rPr sz="1800"/>
            </a:br>
            <a:br>
              <a:rPr sz="1800"/>
            </a:br>
            <a:endParaRPr b="0" lang="en-US" sz="1800" spc="-1" strike="noStrike">
              <a:solidFill>
                <a:srgbClr val="000000"/>
              </a:solidFill>
              <a:latin typeface="Arial"/>
            </a:endParaRPr>
          </a:p>
        </p:txBody>
      </p:sp>
      <p:pic>
        <p:nvPicPr>
          <p:cNvPr id="189" name="" descr=""/>
          <p:cNvPicPr/>
          <p:nvPr/>
        </p:nvPicPr>
        <p:blipFill>
          <a:blip r:embed="rId1"/>
          <a:stretch/>
        </p:blipFill>
        <p:spPr>
          <a:xfrm>
            <a:off x="468360" y="1484280"/>
            <a:ext cx="3456000" cy="4032360"/>
          </a:xfrm>
          <a:prstGeom prst="rect">
            <a:avLst/>
          </a:prstGeom>
          <a:ln w="0">
            <a:noFill/>
          </a:ln>
        </p:spPr>
      </p:pic>
      <p:sp>
        <p:nvSpPr>
          <p:cNvPr id="3" name="PlaceHolder 2"/>
          <p:cNvSpPr>
            <a:spLocks noGrp="1"/>
          </p:cNvSpPr>
          <p:nvPr>
            <p:ph type="sldNum" idx="3"/>
          </p:nvPr>
        </p:nvSpPr>
        <p:spPr/>
        <p:txBody>
          <a:bodyPr/>
          <a:p>
            <a:fld id="{82A2768E-506B-479F-8C00-A16ECE1ABEA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4067280" y="1557360"/>
            <a:ext cx="4465440" cy="44625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	</a:t>
            </a:r>
            <a:r>
              <a:rPr b="1" lang="tr-TR" sz="1600" spc="-1" strike="noStrike">
                <a:solidFill>
                  <a:srgbClr val="000000"/>
                </a:solidFill>
                <a:latin typeface="Arial"/>
              </a:rPr>
              <a:t>	</a:t>
            </a:r>
            <a:r>
              <a:rPr b="1" lang="tr-TR" sz="1600" spc="-1" strike="noStrike">
                <a:solidFill>
                  <a:srgbClr val="000000"/>
                </a:solidFill>
                <a:latin typeface="Arial"/>
              </a:rPr>
              <a:t>Kaşif (Explorer):</a:t>
            </a:r>
            <a:r>
              <a:rPr b="0" lang="tr-TR" sz="1600" spc="-1" strike="noStrike">
                <a:solidFill>
                  <a:srgbClr val="000000"/>
                </a:solidFill>
                <a:latin typeface="Arial"/>
              </a:rPr>
              <a:t> Kabına sığmayan, sürekli yeni yollar keşfeden, öncülük yapan bir karakterdir. Bu arketip bireysellik, özgürlük ve ilginç olanı merak etme duygularından hareket eder. Jeep, Peugeot, Trope-Snacks, Marlboro markaları maceracı ve kaşif arketipini kullanmaktadır. Turkcell ve YKB’in yenilik yapmadaki öncü yüzü de bu kategoride incelenebilir. Ayrıca Arçelik’in “Arçelik demek yenilik demek” sloganı da bu arketipi sahiplenme çabasını gösteriyor. Bilindiği gibi Çelik karakteri ilk çıktığı günden bu yana yeni teknolojiyi halka tanıtmakta ve bu yolla kendisini araştırmacı, yenilikçi (ölümsüz çocuk) arketipiyle desteklemektedir.</a:t>
            </a:r>
            <a:br>
              <a:rPr sz="1600"/>
            </a:br>
            <a:br>
              <a:rPr sz="1600"/>
            </a:br>
            <a:endParaRPr b="0" lang="en-US" sz="1600" spc="-1" strike="noStrike">
              <a:solidFill>
                <a:srgbClr val="000000"/>
              </a:solidFill>
              <a:latin typeface="Arial"/>
            </a:endParaRPr>
          </a:p>
        </p:txBody>
      </p:sp>
      <p:pic>
        <p:nvPicPr>
          <p:cNvPr id="191" name="" descr=""/>
          <p:cNvPicPr/>
          <p:nvPr/>
        </p:nvPicPr>
        <p:blipFill>
          <a:blip r:embed="rId1"/>
          <a:stretch/>
        </p:blipFill>
        <p:spPr>
          <a:xfrm>
            <a:off x="755640" y="1773360"/>
            <a:ext cx="3156120" cy="3600360"/>
          </a:xfrm>
          <a:prstGeom prst="rect">
            <a:avLst/>
          </a:prstGeom>
          <a:ln w="0">
            <a:noFill/>
          </a:ln>
        </p:spPr>
      </p:pic>
      <p:sp>
        <p:nvSpPr>
          <p:cNvPr id="3" name="PlaceHolder 2"/>
          <p:cNvSpPr>
            <a:spLocks noGrp="1"/>
          </p:cNvSpPr>
          <p:nvPr>
            <p:ph type="sldNum" idx="3"/>
          </p:nvPr>
        </p:nvSpPr>
        <p:spPr/>
        <p:txBody>
          <a:bodyPr/>
          <a:p>
            <a:fld id="{331034F9-0EE7-4757-92DC-48C49F63F7C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3850920" y="1557360"/>
            <a:ext cx="4537080" cy="44625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	</a:t>
            </a:r>
            <a:r>
              <a:rPr b="1" lang="tr-TR" sz="2000" spc="-1" strike="noStrike">
                <a:solidFill>
                  <a:srgbClr val="000000"/>
                </a:solidFill>
                <a:latin typeface="Arial"/>
              </a:rPr>
              <a:t>	</a:t>
            </a:r>
            <a:r>
              <a:rPr b="1" lang="tr-TR" sz="2000" spc="-1" strike="noStrike">
                <a:solidFill>
                  <a:srgbClr val="000000"/>
                </a:solidFill>
                <a:latin typeface="Arial"/>
              </a:rPr>
              <a:t>Savaşçı (Champion, Warrior):</a:t>
            </a:r>
            <a:r>
              <a:rPr b="0" lang="tr-TR" sz="2000" spc="-1" strike="noStrike">
                <a:solidFill>
                  <a:srgbClr val="000000"/>
                </a:solidFill>
                <a:latin typeface="Arial"/>
              </a:rPr>
              <a:t> Bu arketip bir başarı göstergesi şeklinde incelenebilir. Her zaman önde olmayı ve her şeyin iyisine ulaşma çabasını ifade eder. Örneğin Nike’ın zafer tanrıçasını yansıtan Michael Jordan’lı iş bitirici görüntüsü bir savaşçı tablosu çizer. Yine bu kategoride incelenen üstinsan figürü (süperman arketipi) mekanik aletler, danışmanlık ve eğitim firmalarında kullanılmaktadır. Süreyya Ayhan’lı Vestel, Atlas Jet, Finansbank'ı bu grupta sayabiliriz.</a:t>
            </a:r>
            <a:br>
              <a:rPr sz="2000"/>
            </a:br>
            <a:br>
              <a:rPr sz="2000"/>
            </a:br>
            <a:endParaRPr b="0" lang="en-US" sz="2000" spc="-1" strike="noStrike">
              <a:solidFill>
                <a:srgbClr val="000000"/>
              </a:solidFill>
              <a:latin typeface="Arial"/>
            </a:endParaRPr>
          </a:p>
        </p:txBody>
      </p:sp>
      <p:pic>
        <p:nvPicPr>
          <p:cNvPr id="193" name="" descr=""/>
          <p:cNvPicPr/>
          <p:nvPr/>
        </p:nvPicPr>
        <p:blipFill>
          <a:blip r:embed="rId1"/>
          <a:stretch/>
        </p:blipFill>
        <p:spPr>
          <a:xfrm>
            <a:off x="684360" y="1557360"/>
            <a:ext cx="2882880" cy="4103640"/>
          </a:xfrm>
          <a:prstGeom prst="rect">
            <a:avLst/>
          </a:prstGeom>
          <a:ln w="0">
            <a:noFill/>
          </a:ln>
        </p:spPr>
      </p:pic>
      <p:sp>
        <p:nvSpPr>
          <p:cNvPr id="3" name="PlaceHolder 2"/>
          <p:cNvSpPr>
            <a:spLocks noGrp="1"/>
          </p:cNvSpPr>
          <p:nvPr>
            <p:ph type="sldNum" idx="3"/>
          </p:nvPr>
        </p:nvSpPr>
        <p:spPr/>
        <p:txBody>
          <a:bodyPr/>
          <a:p>
            <a:fld id="{1D0E56ED-95FC-468A-BD4D-A5A5114A298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4066920" y="1699920"/>
            <a:ext cx="4321080" cy="431964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	</a:t>
            </a:r>
            <a:r>
              <a:rPr b="1" lang="tr-TR" sz="1200" spc="-1" strike="noStrike">
                <a:solidFill>
                  <a:srgbClr val="000000"/>
                </a:solidFill>
                <a:latin typeface="Arial"/>
              </a:rPr>
              <a:t>	</a:t>
            </a:r>
            <a:r>
              <a:rPr b="1" lang="tr-TR" sz="1200" spc="-1" strike="noStrike">
                <a:solidFill>
                  <a:srgbClr val="000000"/>
                </a:solidFill>
                <a:latin typeface="Arial"/>
              </a:rPr>
              <a:t>Sihirbaz (Magician):</a:t>
            </a:r>
            <a:r>
              <a:rPr b="0" lang="tr-TR" sz="1200" spc="-1" strike="noStrike">
                <a:solidFill>
                  <a:srgbClr val="000000"/>
                </a:solidFill>
                <a:latin typeface="Arial"/>
              </a:rPr>
              <a:t> Değişim ve pratik uygulamaları kısa yoldan elde etmeyi, neredeyse mucizevi sonuçlara ulaşmayı vaad eder ve tüketicileri bu hayalle besler. Bu açıdan tüketicilerin zihninde “dönüştürücü” etkileri olan markalardır. Honda, İkea, Tefal, Smirnoff, Polaroid, iPod markalarını bu kategoride sayabiliriz. Türkiye’de Las Vegas’taki gerçek üstü yapılara benzer şekilde Topkapı ve Kremlin saraylarının benzerlerini hizmet ürünü haline getiren World of Wonders otelleri sihirbaz karakteristiğine bürünmektedir.Asi (Outlaw): Genel kurallara karşı devrimci ve uyumsuz tutumları ve sıradışı tavırları gösteren arketiptir. Eski’yi yıkma ve şok etme stratejilerini kullanır. Skandalları ve radikal özgürlüğü sever. Gençlik miti ve asi tavırların dışavurumu her dönem bazı sembollerle (James Dean, Beatles, Madonna, M. Jackson gibi) temsil edilir. Coca Colanın en yakın rakibi olan Pepsinin klasik “geleneksel” Coca Cola’ya karşı, M. Jackson idoluyle “asi gençlik” arketipini kullanması toplumsal yapıyla uyumsuz tüketiciler için bir kimlik ve çıkış yolu sağlamıştır. Ekstra Bladet, Diesel, Subaru, Harley-Davidson, Motorola markalarını da bu kategoride sayabiliriz. Türkiye’de de First, Magnum markaları sayılabilir.</a:t>
            </a:r>
            <a:br>
              <a:rPr sz="1200"/>
            </a:br>
            <a:br>
              <a:rPr sz="1200"/>
            </a:br>
            <a:endParaRPr b="0" lang="en-US" sz="1200" spc="-1" strike="noStrike">
              <a:solidFill>
                <a:srgbClr val="000000"/>
              </a:solidFill>
              <a:latin typeface="Arial"/>
            </a:endParaRPr>
          </a:p>
        </p:txBody>
      </p:sp>
      <p:pic>
        <p:nvPicPr>
          <p:cNvPr id="195" name="" descr=""/>
          <p:cNvPicPr/>
          <p:nvPr/>
        </p:nvPicPr>
        <p:blipFill>
          <a:blip r:embed="rId1"/>
          <a:stretch/>
        </p:blipFill>
        <p:spPr>
          <a:xfrm>
            <a:off x="611280" y="1557360"/>
            <a:ext cx="2882880" cy="4103640"/>
          </a:xfrm>
          <a:prstGeom prst="rect">
            <a:avLst/>
          </a:prstGeom>
          <a:ln w="0">
            <a:noFill/>
          </a:ln>
        </p:spPr>
      </p:pic>
      <p:sp>
        <p:nvSpPr>
          <p:cNvPr id="3" name="PlaceHolder 2"/>
          <p:cNvSpPr>
            <a:spLocks noGrp="1"/>
          </p:cNvSpPr>
          <p:nvPr>
            <p:ph type="sldNum" idx="3"/>
          </p:nvPr>
        </p:nvSpPr>
        <p:spPr/>
        <p:txBody>
          <a:bodyPr/>
          <a:p>
            <a:fld id="{9E26FCBD-3B32-43A7-B339-DE0D0338988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50920" y="1773360"/>
            <a:ext cx="4537080" cy="42465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	</a:t>
            </a:r>
            <a:r>
              <a:rPr b="1" lang="tr-TR" sz="1800" spc="-1" strike="noStrike">
                <a:solidFill>
                  <a:srgbClr val="000000"/>
                </a:solidFill>
                <a:latin typeface="Arial"/>
              </a:rPr>
              <a:t>	</a:t>
            </a:r>
            <a:r>
              <a:rPr b="1" lang="tr-TR" sz="1800" spc="-1" strike="noStrike">
                <a:solidFill>
                  <a:srgbClr val="000000"/>
                </a:solidFill>
                <a:latin typeface="Arial"/>
              </a:rPr>
              <a:t>Sıradan insan (Everyman):</a:t>
            </a:r>
            <a:r>
              <a:rPr b="0" lang="tr-TR" sz="1800" spc="-1" strike="noStrike">
                <a:solidFill>
                  <a:srgbClr val="000000"/>
                </a:solidFill>
                <a:latin typeface="Arial"/>
              </a:rPr>
              <a:t> Bizdeki vatandaş terimine karşılık gelen arketiptir. Sessiz çoğunluğu temsil eder. İnsanları (kadın-erkek) eşit kabul ederek ortak değerlerden yola çıkar. Sıradan adam oldukça kullanışlı bir arketiptir, dolayısıyla bir çok kitlesel markanın sıradan adam efsanesi vardır. Nike bile kampanyalarında (dans yarışması) şampiyon arketipini sıradan insana indirgeyerek genele yönelik bir “sporcu ruhu” yaratmıştır. Türkiyede, Fiat, Ülker, Eti, Halk, Saray, Çaykur, Merinos markalarının kişiliğini bu arketipe örnek gösterebiliriz.</a:t>
            </a:r>
            <a:br>
              <a:rPr sz="1800"/>
            </a:br>
            <a:br>
              <a:rPr sz="1800"/>
            </a:br>
            <a:endParaRPr b="0" lang="en-US" sz="1800" spc="-1" strike="noStrike">
              <a:solidFill>
                <a:srgbClr val="000000"/>
              </a:solidFill>
              <a:latin typeface="Arial"/>
            </a:endParaRPr>
          </a:p>
        </p:txBody>
      </p:sp>
      <p:pic>
        <p:nvPicPr>
          <p:cNvPr id="197" name="" descr=""/>
          <p:cNvPicPr/>
          <p:nvPr/>
        </p:nvPicPr>
        <p:blipFill>
          <a:blip r:embed="rId1"/>
          <a:stretch/>
        </p:blipFill>
        <p:spPr>
          <a:xfrm>
            <a:off x="755640" y="1484280"/>
            <a:ext cx="2884320" cy="4105440"/>
          </a:xfrm>
          <a:prstGeom prst="rect">
            <a:avLst/>
          </a:prstGeom>
          <a:ln w="0">
            <a:noFill/>
          </a:ln>
        </p:spPr>
      </p:pic>
      <p:sp>
        <p:nvSpPr>
          <p:cNvPr id="3" name="PlaceHolder 2"/>
          <p:cNvSpPr>
            <a:spLocks noGrp="1"/>
          </p:cNvSpPr>
          <p:nvPr>
            <p:ph type="sldNum" idx="3"/>
          </p:nvPr>
        </p:nvSpPr>
        <p:spPr/>
        <p:txBody>
          <a:bodyPr/>
          <a:p>
            <a:fld id="{151D734C-0B1A-4A84-991C-A64F22FF5F8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4067280" y="1628640"/>
            <a:ext cx="4619520" cy="43912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	</a:t>
            </a:r>
            <a:r>
              <a:rPr b="1" lang="tr-TR" sz="1600" spc="-1" strike="noStrike">
                <a:solidFill>
                  <a:srgbClr val="000000"/>
                </a:solidFill>
                <a:latin typeface="Arial"/>
              </a:rPr>
              <a:t>	</a:t>
            </a:r>
            <a:r>
              <a:rPr b="1" lang="tr-TR" sz="1600" spc="-1" strike="noStrike">
                <a:solidFill>
                  <a:srgbClr val="000000"/>
                </a:solidFill>
                <a:latin typeface="Arial"/>
              </a:rPr>
              <a:t>Soytarı (Jester):</a:t>
            </a:r>
            <a:r>
              <a:rPr b="0" lang="tr-TR" sz="1600" spc="-1" strike="noStrike">
                <a:solidFill>
                  <a:srgbClr val="000000"/>
                </a:solidFill>
                <a:latin typeface="Arial"/>
              </a:rPr>
              <a:t> Bu arketip neşeli, şakacı, oyuncu, hilebaz palyaço, deli, aptal-dahi, Joker gibi rolleri karşılayan ironik bir karakterdir. Kültürümüzde Nasrettin Hoca, Keloğlan, Fuzuli, Nesimi gibi bu arketipe uygun bir çok karakter bulunur. Onlar yaşamın ironik, eğlenceli veya uçarı taraflarını ortaya çıkarır. Örneğin Disney insanların ihtiyaç duyduğu eğlenceyi pazarlayarak soytarı arketipini takip etmektedirler. Disney yansıttığı hikayeler ile, yetişkinlerin dünyasında yer alan bir çok katı ve zıt kalıbı ortadan kaldırarak, insanların rahatlamasını ve deşarj olmasını sağlar. Türkiye’de Flash Tv., bir Joker gibi kılıkta kılığa giren Axess kızı, Profilo, Regal, Cem Yılmaz’lı Opet, Fanta, Ritmix, Pınar prebiyotik, Polaris gibi markaları bu kategoride inceleyebiliriz.</a:t>
            </a:r>
            <a:br>
              <a:rPr sz="1600"/>
            </a:br>
            <a:br>
              <a:rPr sz="1600"/>
            </a:br>
            <a:endParaRPr b="0" lang="en-US" sz="1600" spc="-1" strike="noStrike">
              <a:solidFill>
                <a:srgbClr val="000000"/>
              </a:solidFill>
              <a:latin typeface="Arial"/>
            </a:endParaRPr>
          </a:p>
        </p:txBody>
      </p:sp>
      <p:pic>
        <p:nvPicPr>
          <p:cNvPr id="199" name="" descr=""/>
          <p:cNvPicPr/>
          <p:nvPr/>
        </p:nvPicPr>
        <p:blipFill>
          <a:blip r:embed="rId1"/>
          <a:stretch/>
        </p:blipFill>
        <p:spPr>
          <a:xfrm>
            <a:off x="755640" y="1557360"/>
            <a:ext cx="2935440" cy="4176720"/>
          </a:xfrm>
          <a:prstGeom prst="rect">
            <a:avLst/>
          </a:prstGeom>
          <a:ln w="0">
            <a:noFill/>
          </a:ln>
        </p:spPr>
      </p:pic>
      <p:sp>
        <p:nvSpPr>
          <p:cNvPr id="3" name="PlaceHolder 2"/>
          <p:cNvSpPr>
            <a:spLocks noGrp="1"/>
          </p:cNvSpPr>
          <p:nvPr>
            <p:ph type="sldNum" idx="3"/>
          </p:nvPr>
        </p:nvSpPr>
        <p:spPr/>
        <p:txBody>
          <a:bodyPr/>
          <a:p>
            <a:fld id="{BA9CA966-BE8C-4182-9394-31E3402E3AE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4140000" y="1557360"/>
            <a:ext cx="4546440" cy="44625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	</a:t>
            </a:r>
            <a:r>
              <a:rPr b="1" lang="tr-TR" sz="2000" spc="-1" strike="noStrike">
                <a:solidFill>
                  <a:srgbClr val="000000"/>
                </a:solidFill>
                <a:latin typeface="Arial"/>
              </a:rPr>
              <a:t>	</a:t>
            </a:r>
            <a:r>
              <a:rPr b="1" lang="tr-TR" sz="2000" spc="-1" strike="noStrike">
                <a:solidFill>
                  <a:srgbClr val="000000"/>
                </a:solidFill>
                <a:latin typeface="Arial"/>
              </a:rPr>
              <a:t>Aşık (Lover) :</a:t>
            </a:r>
            <a:r>
              <a:rPr b="0" lang="tr-TR" sz="2000" spc="-1" strike="noStrike">
                <a:solidFill>
                  <a:srgbClr val="000000"/>
                </a:solidFill>
                <a:latin typeface="Arial"/>
              </a:rPr>
              <a:t> Romantik kişiliği gösterir. Arkadaş, ortak, takım oyuncusu gibi karakterlere sahiptir. Toplumsal sevgi, empati ve hümanizmi kapsar. İnsanların birbiriyle olan bağlarını öne çıkarır. Sevgi arketipi “siz her şeye değersiniz” mottosuna sahip çıkar. Tüketicilerle samimiyet ve özel bağ kurmaya çalışır. Stratejisi fiziksel ve duygusal açıdan çekici olmaktır. Nokia, Interflora, Alfa Romeo gibi markaları bu açıdan sayabiliriz. Türkiye için Knorr (küçük dokunuşlar büyük mutluluklar %100 Knorr), Akbank, Yurtiçi kargo, Algida sayılabilir. </a:t>
            </a:r>
            <a:endParaRPr b="0" lang="en-US" sz="2000" spc="-1" strike="noStrike">
              <a:solidFill>
                <a:srgbClr val="000000"/>
              </a:solidFill>
              <a:latin typeface="Arial"/>
            </a:endParaRPr>
          </a:p>
        </p:txBody>
      </p:sp>
      <p:pic>
        <p:nvPicPr>
          <p:cNvPr id="201" name="" descr=""/>
          <p:cNvPicPr/>
          <p:nvPr/>
        </p:nvPicPr>
        <p:blipFill>
          <a:blip r:embed="rId1"/>
          <a:stretch/>
        </p:blipFill>
        <p:spPr>
          <a:xfrm>
            <a:off x="684360" y="1628640"/>
            <a:ext cx="3095640" cy="4032360"/>
          </a:xfrm>
          <a:prstGeom prst="rect">
            <a:avLst/>
          </a:prstGeom>
          <a:ln w="0">
            <a:noFill/>
          </a:ln>
        </p:spPr>
      </p:pic>
      <p:sp>
        <p:nvSpPr>
          <p:cNvPr id="3" name="PlaceHolder 2"/>
          <p:cNvSpPr>
            <a:spLocks noGrp="1"/>
          </p:cNvSpPr>
          <p:nvPr>
            <p:ph type="sldNum" idx="3"/>
          </p:nvPr>
        </p:nvSpPr>
        <p:spPr/>
        <p:txBody>
          <a:bodyPr/>
          <a:p>
            <a:fld id="{1D1C8A43-9C68-445C-9D99-19BBF6BB895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457200" y="1557360"/>
            <a:ext cx="8229600" cy="44625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	</a:t>
            </a:r>
            <a:r>
              <a:rPr b="1" lang="tr-TR" sz="1800" spc="-1" strike="noStrike">
                <a:solidFill>
                  <a:srgbClr val="000000"/>
                </a:solidFill>
                <a:latin typeface="Arial"/>
              </a:rPr>
              <a:t>Günümüzde Kimlik Eğilimler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Kimliğin önemli bir bileşeni olan kişilik iletişimin de önemli bir unsurudur. Çünkü bir markanın kişiliği yoksa kendini tanıtamaz ve akılda da kalmaz. Bu nedenle her marka kendi tarzını yansıtan bir imajı “tutarlı” ve akılda kalmak için de “tek görünüşlü” şekilde uygulamak zorundadır. Bu açıdan zihinsel yönden derin kökenleri olan güçlü kişilik kalıpları olmaları sebebiyle de arketipler oldukça kullanışlı birer araçtır.Marka kişiliklerinin her çağda değişim geçirdiği düşünülürse bu tür kalıpların esnek ve canlı şekilde ele alınması gerektiği açıktır. Örneğin Lux sabunları ilk çıktığında sıradanlığa karşı insanların hayali olan star arketipini kullanırken 20. yüzyılın sonuna doğru realist bakış açılarının gelişmesiyle daha çok bir özgürlük arayışının temsilcisi olmuştur.Nike da bu eğilimden etkilenerek geniş kitlelerin ruhunu okşayan sıradan insanların kahramanlığını ortaya çıkarmaya başlamıştır. Örneğin Coca Cola reklamlarındaki kahramanlar (patronundan önce çıkan adam, doğal davranan kız) içimizden biri gibidir.</a:t>
            </a:r>
            <a:br>
              <a:rPr sz="1800"/>
            </a:br>
            <a:br>
              <a:rPr sz="1800"/>
            </a:b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151AA21-5E46-49D4-8338-5485A13B30F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457200" y="1628640"/>
            <a:ext cx="8229600" cy="43912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Bu gelişmeler modernizmin kitleselliğine tepki olarak doğmuş bireyci akımların ve 1970’lerden itibaren gelişen anti-kahramancı postmodern eğilimin bir sonucudur.Bu açıdan bakıldığında Arketiplerin değişen koşullara daha kolay uyum sağladığını söyleyebiliriz. Örneğin Disney’i ele alacak olursak koşullar katı, kurumsalcı ve devletçi olduğunda özgürlükçü hayaller ve kahramanlar, koşullar aşırı rekabetçi ve kapitalist hale geldiğinde ise kolektivist ve paylaşımcı hikayeler, veya katı cinsel ayrımcılık koşullarında bastırılmış duyguların gerilimini azaltan gizli eşcinsel espiriler toplumsal alanda rahatlatıcı deşarj unsurları haline gelmekte ve “Soytarı” arketipi tüm bu değişen şartlara ayak uydurabilmektedir.</a:t>
            </a:r>
            <a:br>
              <a:rPr sz="1800"/>
            </a:br>
            <a:br>
              <a:rPr sz="1800"/>
            </a:br>
            <a:r>
              <a:rPr b="0" lang="tr-TR" sz="1800" spc="-1" strike="noStrike">
                <a:solidFill>
                  <a:srgbClr val="000000"/>
                </a:solidFill>
                <a:latin typeface="Arial"/>
              </a:rPr>
              <a:t>         Platon, dünyayı idealar’ın oluşturduğunu söylerken yanılmıyordu. Başarılı kişi veya markalara baktığımızda, onların belli bir ruh’la (arketip) harekete geçtiklerini görürüz ve çoğu, kilit noktada işlerini bu “ruh”un hallettiğini söylerler. Bu örnekler birer bilgi küpü olan arketiplerin potansiyel gücünü göstermektedir.</a:t>
            </a:r>
            <a:br>
              <a:rPr sz="1800"/>
            </a:br>
            <a:br>
              <a:rPr sz="1800"/>
            </a:b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02BCBBC-28F7-4E4C-ABBF-4BD4984C603A}" type="slidenum">
              <a:t>68</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9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9" name="" descr=""/>
          <p:cNvPicPr/>
          <p:nvPr/>
        </p:nvPicPr>
        <p:blipFill>
          <a:blip r:embed="rId1"/>
          <a:stretch/>
        </p:blipFill>
        <p:spPr>
          <a:xfrm>
            <a:off x="0" y="15840"/>
            <a:ext cx="9144000" cy="6842160"/>
          </a:xfrm>
          <a:prstGeom prst="rect">
            <a:avLst/>
          </a:prstGeom>
          <a:ln w="0">
            <a:noFill/>
          </a:ln>
        </p:spPr>
      </p:pic>
      <p:sp>
        <p:nvSpPr>
          <p:cNvPr id="4" name="PlaceHolder 3"/>
          <p:cNvSpPr>
            <a:spLocks noGrp="1"/>
          </p:cNvSpPr>
          <p:nvPr>
            <p:ph type="sldNum" idx="3"/>
          </p:nvPr>
        </p:nvSpPr>
        <p:spPr/>
        <p:txBody>
          <a:bodyPr/>
          <a:p>
            <a:fld id="{2EF39AB6-D6B5-42EC-A27E-A60E1FBC955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Yaşamım bir anlamda, yazdıklarımın özünü oluşturuyor, yazdıklarım yaşamımın özünü değil. Kişiliğim ve yazma biçimim bir bütün. Tüm düşüncelerim ve çabalarım aynı zamanda 'ben'im. Bu nedenle, özgeçmişim 'ben'in yalnızca küçük bir parçası."        "Yaşamım, ortaya koyabildiğim bilimsel yapıtlardır. İkisi de aynı şey demek. Yapıtlarım, içsel gelişmemi ifade ettikleri için yaşam yolumdaki belli durak noktaları olarak değerlendirilebilirler... Yazdığım her şey, içsel bir zorunluluğun sonucuydu. Kaynakları da kaderimde olan bir zorlama. Yazdıklarım bana içimden saldıran şeylerdi... Beni harekete geçiren ruhun konuşmasına izin verdim..."</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0C5805FC-F978-4147-BA56-3980FBB5576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1484280"/>
            <a:ext cx="8229600" cy="460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	</a:t>
            </a:r>
            <a:r>
              <a:rPr b="0" lang="tr-TR" sz="1600" spc="-1" strike="noStrike">
                <a:solidFill>
                  <a:srgbClr val="000000"/>
                </a:solidFill>
                <a:latin typeface="Arial"/>
              </a:rPr>
              <a:t>	</a:t>
            </a:r>
            <a:r>
              <a:rPr b="0" lang="tr-TR" sz="2000" spc="-1" strike="noStrike">
                <a:solidFill>
                  <a:srgbClr val="000000"/>
                </a:solidFill>
                <a:latin typeface="Arial"/>
              </a:rPr>
              <a:t>Jung için eğer kategorik bir "öteki" tanımlaması yapacaksak, öteki'ni, Jung'un "kendi"sindeki, benliğinden öte duran ve nesnellik tanıdığı Ruh-içeriklerinde aramamız gerekiyor. Kitabın başlığı "Dört Arketip" bu konuda önemli ipuçları veriyor.</a:t>
            </a:r>
            <a:br>
              <a:rPr sz="2000"/>
            </a:br>
            <a:r>
              <a:rPr b="0" lang="tr-TR" sz="2000" spc="-1" strike="noStrike">
                <a:solidFill>
                  <a:srgbClr val="000000"/>
                </a:solidFill>
                <a:latin typeface="Arial"/>
              </a:rPr>
              <a:t>        </a:t>
            </a:r>
            <a:br>
              <a:rPr sz="2000"/>
            </a:br>
            <a:r>
              <a:rPr b="0" lang="tr-TR" sz="2000" spc="-1" strike="noStrike">
                <a:solidFill>
                  <a:srgbClr val="000000"/>
                </a:solidFill>
                <a:latin typeface="Arial"/>
              </a:rPr>
              <a:t>       Carl Gustav Jung tıp ve psikiyatri kökenli bir ruh çözümlemecisidir. Psikolojik tiplemeler, kompleksler teorisi ve sözcük çağrışım testi gibi özgün bilimsel katkıları, günümüz psikolojisi ve psikiyatrisi içinde de yerini muhafaza etmiştir. Ancak Jung'u bir okul yapan, bütün insan-bilimlerine yansıyan türevleriyle sembol-bilim alanındaki çalışmaları ve (kişisel/ortak) bilinçdışının dinamik ve görüngülerini irdeleyen yaşam eseridir. Bu katkı antropolojiden teolojiye, psikolojiden felsefeye, etnolojiden sosyolojiye çok geniş bir alanda değişim ve dönüşümlere yol açmış, ve hatta kuantum fiziği gibi uç doğa bilimlerinde yeni açılımları (örn. eşzamanlılık [sinkronisite]) öngörmüş, önermiştir. </a:t>
            </a:r>
            <a:br>
              <a:rPr sz="2000"/>
            </a:br>
            <a:br>
              <a:rPr sz="2000"/>
            </a:br>
            <a:r>
              <a:rPr b="0" lang="tr-TR" sz="2000" spc="-1" strike="noStrike">
                <a:solidFill>
                  <a:srgbClr val="000000"/>
                </a:solidFill>
                <a:latin typeface="Arial"/>
              </a:rPr>
              <a:t>       </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B058978C-8561-4ECA-A762-72511652279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4T21:03:37Z</dcterms:created>
  <dc:creator>levent</dc:creator>
  <dc:description/>
  <dc:language>en-US</dc:language>
  <cp:lastModifiedBy>levent</cp:lastModifiedBy>
  <dcterms:modified xsi:type="dcterms:W3CDTF">2010-12-26T07:48:25Z</dcterms:modified>
  <cp:revision>36</cp:revision>
  <dc:subject/>
  <dc:title>Slayt 1</dc:title>
</cp:coreProperties>
</file>